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start.wav" ContentType="audio/x-wav"/>
  <Override PartName="/ppt/media/image16.gif" ContentType="image/gif"/>
  <Override PartName="/ppt/media/image2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86B5-4930-4047-B405-BD58F56220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D980-CF93-4677-B2C2-7BAF142E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F6882-5B8F-4A11-B525-356AA73E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4A5D63-98C5-407E-A155-65FE9791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1940DF-C4AD-4B64-8A87-6ACB43BF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AB4DBA-29A3-4F04-9455-692BDDC1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982EA5-6BA9-41F1-84FD-8EC96FF8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4A24D-3433-40F6-B270-16F2BE54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40AB87-A9E4-4CAC-83F8-53B0FA30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9BCC3F-24D7-449C-A522-AB5293B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1C9FD8-D47B-4066-A669-191A5D6632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B9032-9615-411E-BB31-18342B29F1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7D22-C5F6-4487-ACA5-17C20E79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3AE4C-DE04-45C9-8F7F-C23B8462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EDB2C-DFA7-4474-8A0C-23A5CD7A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3B7CF-85BA-48B4-8842-0F8808F5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F7CD2-8993-4B38-97EA-79496313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8B23-4B1A-455A-B565-7B89DEE8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2416-6AC9-4A1B-994E-64EF6E78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E48BB-E5A9-4E3C-A02A-ED727BB8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A4C8-6D72-4DFA-A43C-BEFD6075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526DE-5B9B-4C8D-AC83-95531602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CEB26-8C2C-4243-B1D9-8C90AB2A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6CC3-D3F1-4C1A-878F-D4686CFC1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74FCD-A2D7-42EE-AC07-E45E6A052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095618-6B4C-4A8C-BF63-3CE6D18AB6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302528-5680-410F-A832-F3ECBBB0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EB464-67DC-486D-A558-34C2E2F7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885C16-8748-4522-B545-93E144AF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1C0B9D-08A6-4C50-BA7D-E5DC746C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CCA5C-DD46-4551-A02A-8B558EDB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FE17C-AAE8-474D-B974-698EB107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AD0EEF-4DF2-4C51-B394-552C9608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57BD63-EF9F-43B2-A0A7-49990C37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6D71F-01B3-4EBE-A8CD-B324D35B3F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3D286-BFC0-411C-B4FF-ABBD1ED1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25F9B3-5CFE-4D24-9B4C-013E13AD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9C81CF-68B2-45A5-B6DD-E8E6551711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5A838-D939-48F1-8414-A6D886BD4B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A62BE-F437-4BF0-BF61-25471612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8E29D-C89E-42C3-9A19-48CEB77A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C340A-8942-40F2-9883-06AFA4E6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7117E-B751-45B6-A85D-4B87FBBE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E77F2-17E9-4DDA-A3E2-38D029F4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1B7F4-7026-49F9-ABDE-F8589973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DA84D-FD71-42E9-90F0-DEA36835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3BEE4-B2F3-483A-80BC-038B251C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42FF7-C5FF-40EF-8A4C-1EB0E2E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E92F1-81F0-4B2A-877E-217B40E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27738-BD66-452D-A991-65313F41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47B7E-0F6F-4163-B0AB-D4364ECD8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27237-468D-4C6B-9A84-1A6996B7BF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77DED-372C-484A-825B-A8BA58F7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7B405-7DE6-44B0-B72B-A32BF724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AF406-311F-4C80-959E-729AA124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89B4F-1797-4DFD-8EE7-1F611459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08F0E-64B8-4580-BC6A-C45A8A93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F728E-D326-4DB8-9532-135DDBF1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54717-20B1-4F9C-8A34-D39FE1F1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8BC46-ED88-495E-864D-EA875A83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79636-FB63-4D03-BAD2-FC1324EF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48CEC-2490-40CE-86E7-D55B14E5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210A7-F587-4571-ADD2-A25592D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14429-2D06-4189-84E3-BAABB21916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B2D159-7199-412E-9AA7-CDE8AC23BA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B7BE74-86D3-4BDC-916B-8DB830D8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B69A4A-16FD-4E19-B424-6AC0570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D0BBB-426C-4E69-81CE-C9F93E4D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AF6251-E3FB-4F0C-B0ED-B020085D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BF20EA-933A-4A67-B66D-9418DF70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70A3B0-B09B-4955-A4B3-D4834086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719F37-7C25-4D4B-9FA4-90ECFE11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5631EC-11E2-4E05-BBE0-50E6D06F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768727-2F9C-4D45-8472-A8FE189E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315EA2-AE07-4BDB-97EA-30ED68EA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C08498-8CD1-4BD8-814B-2BF61A8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97AB72-FE7D-4E0A-AEBC-3BD067C417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0389F4-F34F-4A81-B322-6B790FD56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2DCDF-B5D5-4D65-9793-9CAFB018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BA7EC0-72B8-4550-82D1-A692AF89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85D235-3035-4A38-AAFF-D45A7430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16F66A-A37E-4CEB-A6E4-62B2F411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737AEC-8F1D-4871-B85C-ABF5CD0E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F09DD3-75C1-4EAA-A1E0-2D334FD9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ED8AE8-6AD3-42EA-B611-9529EB3E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C8C68E-5AC2-48C7-BE2C-D818E1EF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0E1FB9-283A-48D0-A9C3-6D3D81E4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A846D7-FB8F-4147-A857-88680F2A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377C1D-6AF7-4D48-A841-208C765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458C5-B4EE-4C8C-BB02-1973DD84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29446A-E946-47B9-AF47-94FDE02589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26BF5-4AA8-4F26-8451-3F725262CD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0A0EF-AB9C-4BF7-A621-F9DBB934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9CCE3-B783-4E84-BED5-70F5238E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49CD6-546E-4BEE-96DE-963107C7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09BAA-495D-408A-A297-1984A035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0B9F0-0A8D-4E13-B3A8-50E0DCFF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9D5CD-82AF-46AE-BEFF-A7454D2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BE706-E067-401B-99EB-55D07E8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907BC-A2C9-4A20-873B-25DF67B7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CFAC-7C94-468D-B0C8-D08E6346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2554F-2359-4263-B1DD-BEDC962E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90B5D-AF26-4DD9-A0C0-FAC2443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DDB82-1C0F-4847-B1A5-110211950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430458-F123-4577-8BDB-918E8528D1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4C59D5-DC1B-4D24-BF17-EB13BC03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69343E-297C-43FA-BC68-C477BBC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6C59BB-33B6-4D24-A379-48F0AB9F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A3CCB0-DE9D-482B-A888-020C083A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7AB5A6-8BE2-4934-B044-6088CEC0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E8FD3D-7D9F-4A1D-8CC7-6AD4D8A6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64D0-0EBC-4886-BEF6-80BDFCA0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2166D-20FB-48FE-A08B-CA4DC78C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8C7734-AD1F-43C1-813A-1F1B502C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A00605-6B35-429C-9C64-D3AA4F7E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C88C2D-0785-4A99-9C3A-FEC97B8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5E5826-C51B-46D7-8428-AB6C306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0F5C90-5D22-4F4C-A362-93FD03009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AA2D76-6767-41AF-9355-650F7B1C86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C4ADBE-77D1-49FE-8029-1DC31276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F54D75-D293-470B-B130-6CDB3471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35E920-74C3-4E2D-BE9F-7039424F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1A1A92-901F-4579-89C2-8FA2176A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19C99-B830-4478-AE76-C0C59F88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FC56A9-D8BD-4D32-BF1F-2318A3A5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49A037-B130-4D36-BA47-98C0D89E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3DB7E2-F657-4481-BD0F-7F780C4D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644937-F648-4B82-A547-440FD363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83C80D-248F-4BC7-8DEC-0A884D13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0FCB54-70A8-4998-95BA-42A0B107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D5018B-17AA-44AC-A13C-1BF1F7C795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C2198-A6B3-4076-A9FB-F3B6815BB3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7931F-A6DD-4D0E-954C-82731C81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1A788-2FE8-4BA8-8AC7-B6086926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0AF1D-ACAB-44AA-BB11-6068087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6D92B-E5CF-4097-A374-C9595FF0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4D5D7-E8AF-41F1-B553-4D5CB71E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DE597-200D-4421-B8F4-80FE13D4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0922D-C2ED-48BD-B703-07B2773C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B3B52-E229-461F-B2DB-B2BB7BF2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83805-8D14-4F4C-A2D1-45162F97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70B23-CEB2-4D21-AAE7-4DFCE634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825BD-6DC1-4E87-8B60-31EE1460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CF011-E528-419E-BD30-DCE44FC478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75A77A-67BB-41BA-81F7-E9E7D8B7A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1B3E5-FC50-4E09-AB2F-C23FF433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593FAA-6FA0-4FF3-8D60-3D77F60C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4F1767-3801-4E17-A080-25F2D341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9C76A4-318B-4B17-B961-B1BA221D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814D3D-D127-42EA-B824-9AD4BC22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4F235A-ED44-4E8A-B2AE-0E0E8804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8EA039-AFAE-493D-8072-9AFD5E93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258DCD-D9B1-4A37-8444-2FB35F89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2F6BF8-5D7A-4AF2-870C-1FFB641A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7B7605-E9FC-4FC0-977D-AC08E9D1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8CA371-6743-4903-A101-66E19E1C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7DDC1-0159-4F72-A83E-DFAEE0504F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A34563-A778-4B8E-9C14-C3AAD261E2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2F3622-18AC-438E-863F-335FDCE991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D66334-300A-40C8-9BBE-71F31F3B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83A4CA-C791-4A10-AB32-C4401B9A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17278B-46C8-45DE-8F7B-61F05A7A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E691A4-4EB8-4EEB-A57F-3F3ADC80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5F8385-CB24-4873-AC3F-595CAFDF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5AC066-0050-46C8-B660-241C47F5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FFCFDC-9957-4C91-ADC3-584CD73E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A5D1AE-BC95-4A65-84BC-06C337A3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5437D-115F-4EBA-A71B-FC8584CE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F996AD-560A-4F0D-A743-466FCE79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AAF300-6618-403A-BBCF-371D2FC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ECDBB1-42AC-4928-B521-9E0F51D2C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FB9E5-4D7A-47D6-83A9-02CF545CD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20B69-E45F-4A6D-9287-85451DF7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A1509-8B09-458C-A3CA-C6538F44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ED43E-5601-4F6D-A835-2990F96B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7182F-504F-4A5A-B1AC-1630C538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BC656-CE45-427C-8B50-55B76073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4F4F1-BB40-41E1-B9F9-2064775D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3A09A-22E7-4356-A901-98BDA55F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836FD-4E73-479B-BF11-7A8FE90C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26CCD-E54B-4E44-80C0-50BA0C78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1CB9B-C942-4A62-955B-BECBB9CA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C0387-E712-4BA3-8E4A-66691B9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6E76A-3B6E-4430-B3DD-44672418D3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306171-9B77-4BA2-AD45-C349140809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E9D8C2-22A0-4623-9FF7-2098FC0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B0C459-BF72-4EE8-A8B6-88BDDD48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C54A09-5FBE-4D90-9519-F6FAEBC1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486D46-64AB-4500-932B-7D118D8B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DE8D2-34BE-4822-8A4F-ACB15EF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CF22E1-058B-4D7B-A3C5-E1CDA0DE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3B8FAE-2570-4F25-AE68-DC2A3FEB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51D18D-C521-4A11-B841-90E52CF3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5649CC-C05E-449E-92A6-1EF5B8C2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8F54A5-C9BC-44A2-9719-1EBF7F80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77A536-E752-4F9B-86C9-1E26801D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5CA4C5-0A1E-412B-9B1A-FE3D4A97B6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FB5D86-589C-4A47-A803-AA29BB5F6A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F82784-5D24-4C05-9FA9-B87F7739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689D6B-E42C-42A8-91B2-FC10B479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3E23E-FC42-4D9E-AD45-E006E5FE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9FE262-7AE1-4629-A6A1-5572283B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F199BC5-7F1D-4591-8ABB-7D78E202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1BE565-3526-426C-BB2E-965D8F92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0EF0C38-6BBE-4304-B1EA-42E10670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BE6AD5-873D-46AC-BDBC-52E5CC43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0745D2-1EEA-44E2-959A-6480780E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4417094-CDEA-489D-8B5D-DD5C0034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E9E848-F6B5-4FCF-9E42-44A5BEDF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30DEC5-C876-4FA8-9302-DE95356481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19C4D-5814-4945-9EBF-F9A0E07C1F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3FCC50-C44E-4704-92A1-268B7F6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1DE9F-B7C5-4E39-AEE0-ADA90EC2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448A89-171E-4524-BBF7-8772CCCE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3F029-11BE-4734-8A9F-36424FD2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6DC95-B5E7-459B-8468-4ADF82E5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4FE9A-7C71-4A24-BA70-B775A346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A780C-8C10-46D3-9AA3-7E8F9D7D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9FF96-1500-42CE-AB33-2B2FD7C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34B0E-FD85-42E1-A628-288530A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96BEE-49B1-42BE-A468-69C70E34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D5D7F-007A-4B69-92DB-6982896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8350-205D-4F6E-8318-DC15DAC5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8F41F8-D2D4-4BCC-911E-DE813D06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D3CBC-1049-48A0-8FB1-069B2AA08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92475-D81E-4400-B140-576A1942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74B87-0B75-49CE-B8BF-5696F760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D38E5-5D8F-43DB-A371-965C4FB4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D5E0F-739C-4B0A-914E-34607111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C5E62-42B1-4500-A5C5-DFD8BE1A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6DA6A-5BAA-45C7-9D50-C0A3E025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AC3CB-224E-4260-8B31-610D94E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067DF-9988-4C80-AFD4-D2625DEC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E29F77-E0AB-40BA-B729-D93177A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A277B6-5FAA-48A2-92B1-69BA942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6808E-A58C-4811-8A93-74617556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695DF8-F21C-4CC5-A38F-209EFA2E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35BBD-B630-4067-8CD8-64F84E49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77319-26BF-42FD-A517-21837326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F069C-5A85-4005-BA20-A3AF4B2B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3E564-03D4-4339-BC33-2D67D430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6750CC-BBBD-40F4-B821-57754332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43BF3C-D827-4A9A-BFD9-6EDD14B8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08958-0A1E-425E-B5BD-AFEC2000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5A08E-F73B-47B1-918B-5C67761C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8E578-400D-4AD0-B6B9-51779DA3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0ACF4-D5C4-4432-A161-065904D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F662B-5B43-467F-93C1-F566234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CF07B-08D8-4477-A2E1-5F1CD809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4EAB4-2CE5-481A-A6BF-88062AE2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9180C-4310-4607-B6D6-80F64AC5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871781-3013-421E-AEDC-1242E981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4B244-9A67-4FC5-B4F2-8D8CBE9A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85576-1ADF-48D9-889D-D8E7FC4D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83E3DF-58C1-49A0-8AFA-9677EF11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1D8F60-B16D-4CA4-ABEF-934749B0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12CF96-A5AA-4D7A-B06F-4733FC9A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7651A-B100-4B8C-8FAD-87134887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CE3C9-4ACC-4D46-A611-5714796C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65EE4-C499-4BDD-B27A-1B207C28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2B7062-A09D-4217-9B00-72C61DF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6B5DA8-F349-4975-B18F-7B164298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1B7C2-FC74-40F1-B704-5BE7F9B5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799E6-EA5A-4F29-80BF-D37E17F6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C24A1-27C0-42B3-8B29-C6057E57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3294F-7C94-4655-9834-BFCDEDDE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58BCF5-D8A9-432A-ADC5-B031A4F6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10867-ED57-45AD-8CA8-A9B9802C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EC6C2-316A-4ED6-8457-1EC70C0F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1D6A9-9ED6-4F12-B7DA-1641BC0B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4BF69-D3E0-46EB-8DC2-4A2201DA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1DEDBE-AAB6-4535-AF98-CA62C57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ADB13-BFD9-432F-B833-5F6572E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3B9574-4A35-4BD9-A456-9C8CBC7F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5B55E-F6FD-4D38-9C05-EBEDB6BA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D9170-F7B5-4249-98E9-8DA90AA0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EC35B-69FF-4D1D-8C67-516BE824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EC784D-A19F-4C13-B938-7385D4F3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5E6FF-819B-442D-BD4F-83A4D4BE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B81AFD-BA24-411B-8C4B-A533B797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B4966-BCE7-4A8F-8DBE-6A278D34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5896EC-1F60-45FA-A032-9CED018A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FFBBC4-5EF6-47BB-98B9-1AD4A433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DC067F-424A-4251-8FA8-134CE54E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C9FB9C-B415-495F-8D96-7A9BDF9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6CBC84-615D-4C20-A7AA-AE8FA79B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87155D-8AC6-46C9-8E22-ED206881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824807-888D-4488-8C32-D8CEEAF0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0F3525-7C4F-478C-BB68-32DCC21C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FBBC87-E1E4-42A7-AF4B-6322FCDB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D4367F-19F5-4638-B397-F3B4319F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B6B51C-0DDB-4AB5-BFB1-4AB1C2B4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D0C998-6728-4B14-99C7-860DF01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668AF6-1BBC-4F3D-938F-430CA0A1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E8CADC-6B9D-4E93-9911-FB202E13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9ADBDF-16F3-45A7-B95A-8E18B810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90B06E-1052-44DF-9A33-3956E01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B09644-9994-43F8-85FB-7EE34A8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C77A38-D9B0-4D85-8B90-83CA6BA3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EDB1D9-08E6-4019-A3F7-69F0A83D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7992-C556-4BA4-B458-837AE04F0A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B2C577-79D5-46A5-994B-8E661BC1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7CAF94-1287-4986-BF13-B5016A3A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362C2B-A88B-4FA1-A80C-B85FF23D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42B5E4-8E98-42FC-BAB7-C93FADB6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2855F3-8479-448F-BC69-C6AFBB27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83753F-2BC5-441A-BF4A-E973C316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158437-AA02-4BD8-B0C6-377A05C8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2E054F-2B8F-4414-A920-C9979C02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0621D3-52F2-464D-BFC4-2824DA1A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6776E6-CB9E-41BF-8980-5E02206D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8309-AB28-47C1-AA1C-0C7A94E2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630378-189B-48D0-8885-6ACE65F3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9EF0A7-8BCB-4BB7-86A6-5A8B7E9C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388815-C0ED-465D-A7CA-9EE21DFF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46F2C5-1769-43CD-B1B9-B27169C2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04EF6B-33B7-4AC3-8291-EDD437E6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8DD8C6-CC76-4E1B-97C6-FC1F9C4B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F3526E-C420-45FE-A81F-82FEEC45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9BD143-1BE8-4E27-AA51-58A006C5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6F1038-174B-4949-AE4D-F28C5A8C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4B3AA9-EF4F-46D0-9375-2FABF4B9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B1E7-96C9-48BA-AC00-F589B5A9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E78038-F44F-4264-B66A-CE0AE1FF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424408-FBAE-460B-8767-79985B8F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9D2A54-D00F-4E84-B82B-A8D6801E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0D514E-660D-4176-8CE7-8B7C13B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53B93E-ADF9-4CD4-A62F-75D4B9E3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B916D0-FC2D-4F2E-824E-5C456A6A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41048F-2A07-4C76-9A0E-4798C8EB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C94350-1779-40CC-BFB0-88A76439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1188A7-F3F6-460F-A56D-66A86E20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114DB1-5E01-438A-9BE4-4574246F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2D5A-2FF0-4AFC-95A3-F10B2307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BA09-8DC2-4B6D-A74B-0C82CF44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F953D8-66CE-4E9B-B1A0-1341BBAC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BA7239-5776-4FBD-9457-504DCB76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6D9D26-C08B-4C83-9A15-2085E697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BACD35-7FA2-4485-8B60-CEC7F98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D9149C-83E2-4F90-B38D-0F42C19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DB3061-F2D8-42EA-BF3A-6BBAE3D7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8961CC-2652-4697-8C8D-7DCD8B5E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34A141-D4B0-41C3-AD55-FA22DBBC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E63DF7-10EF-4639-8408-A39276E4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94FEB0-229B-479F-BBA6-85CEF381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3AAB-9075-44AE-80AB-108B3738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9D2FB6-3FFA-4EA5-8CD2-B6EC3DDE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DDAD36-5EA7-4059-8F2E-41B44050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7759FA-C3CE-42D3-82DA-10BBE680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732D76-C3BF-49DE-A369-3E8D900C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3FBC3E-26FE-47F6-AA95-E93F025E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04D06A-9FDB-49CF-96B1-19AF378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7EC7A2-E2B8-4709-B3E3-72F7290B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BD444C-C98C-4031-87C4-4519569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830A48-382C-41CF-9C25-5367E75D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1283FA-C357-48E8-B743-29C3ADFF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2AF9-5AE4-4665-A5EA-880879EF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41DF08-6234-4B5B-9FF3-4301A36C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3D208A-0861-41E7-9F01-3CB72A3C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FD4481-3267-4F6A-B951-E9047C64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7FEE0C-3B45-4DAC-A3FA-C4D5BFC8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4E8F22-EFA8-478C-848B-CBB2C3F8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F87559-1519-485C-B0A0-F3DD1ACF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12988F-DF6D-4DBE-95EA-F5FEE55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B4162F-B6AC-4A5A-9252-51A118B9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7A5AC6-C944-4F55-97BF-7870EE3C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EE567B-0F05-4765-B264-BE7F344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5D60-F77B-4509-A620-5FC1572C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3E4EE9-32AA-4D01-B8C5-CC002E54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F16D29-D1D5-437D-9AE9-4157B9D0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A4B79A-53A7-4890-B84B-1F924DF2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314E-F90A-4049-ADCC-68FADADD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90B9-5C16-4A25-B34F-B060292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0983-7023-4FC3-AD06-AF251322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10F7-E715-49DC-A8A7-83A96FAB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9C32-8E9A-445E-A6CF-1FF9CBE17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DA7D3-F2EF-4110-B883-8F11EF16C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22C9-1693-459B-A4A7-EE528970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67976-2821-49D6-870C-0A0C976B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2684C1-FD54-4806-ADBC-A5FB66AC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CFB19-B392-442B-B017-44B0256B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AC121-BE17-4E71-8E31-178CDAE7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6A815-EC9D-426B-BC0F-1B6461D2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3C00D-D5C7-4F66-9B64-50D487C1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FC7C7-EEC7-4F04-85BC-9C9013CB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9C6BC-A06D-4764-9BBF-6ECB11CC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89137-A246-4D81-8CD3-3BBC4F94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5E49C-F9DB-4E85-AB9C-51CB59E9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223D-C2CF-4A0E-AE00-A248689E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3A41E-83C6-4345-8F34-5443063FA2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F3993A-53E8-4A4D-A9A7-BA32CB412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17412-3785-42D7-A18E-7A6B3128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4C725-6C35-46F2-AEA2-ACEC1E95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E5DB9-47AF-4B26-AE28-A41471F2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11A3C-9E86-42AB-B0BB-08076499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A26C42-27A3-4FB2-A02D-5B92D49E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C3A63-1503-44B4-91B9-79733490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9120ED-8247-4363-800A-AED3065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64319B-C44D-478B-84CC-22FA8876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D32E-13C7-443F-9D76-F4B6713B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227696-4D9E-4598-85F6-B9354065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6C0334-3502-466C-8B16-58BF745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2BC03A-0712-458F-ACE5-BEA41A7FE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61F08-238D-4173-8F07-3B8D7C782F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47E9-0BB6-428B-B81B-A285534F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0DEF7-7C30-4200-88D0-0C28B254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4455-286C-4168-A6AB-11A9D46E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7C72-7B8D-4DF4-8FCB-D2E5A269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70C7C-4BC3-4225-A37F-0C3C944F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D056-DFF0-402D-BF49-3CAB2086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1803-F159-4FB1-8D5A-3FDC4CC6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49129-3DFD-44FC-8633-6014D0C8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7B91-C30B-4C8C-9491-E6E014FA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6D999-18B7-4550-88F2-1FFF0EDC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06830-F9EE-42DD-ADB2-54BB8F9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8519-B666-4203-979F-D7509537E0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3D251-624C-4627-AA6C-D3FC5947E6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0407D-4148-4DCC-A957-E8459346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624C3-D78C-47F7-83F5-65D3BAED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1775D-14A6-4958-94AD-32BF3DF7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AD8FF-ACDE-4487-B1D2-5BCB188B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1D28-B303-4B6B-ABBE-917258BC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C1491-B2F0-49C3-9DEE-9C69037C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67118-90DF-40FF-8D62-F097A740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2BA6E-B89D-4E47-AE44-F7C736D2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D5C31-F90E-41CD-8BCC-8B915B99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45F5C-9ED2-4B3D-86BF-D3FDE04B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E5230-6D6E-48D9-85D7-2324FE1C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F1C66-A393-4075-8865-AC1244253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B1AA6-6FDD-4843-90DE-3D2B9959AD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0B90C4-5252-4638-8477-4AE8979A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B0CBDC-2402-4578-A4E7-56ED4A96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096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096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4096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096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096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096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096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9ED1-A961-4CF3-A0E2-790B0B5022F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5F5A-1232-4AAE-AF98-290AC5D8F3E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D602-9DC0-4F33-8C70-7BC9281D57A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0393-38B2-4893-9318-D7533CA0284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EFC-28EB-4EA9-AC09-88315E31164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B570-1C57-4D55-90D7-2EF41F64A97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B7C9-5A86-40BF-8D6E-0F6832F43C0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2156-6F43-4465-BA4E-4C66EA41930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D16B-8CC4-4C42-80F1-3E628EDB0D1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D9BD-4D0D-42D4-AB0E-6F097B4479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D059-1859-4E13-9FC4-9DD398C43D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F7AA-A192-4411-A160-57F3E09A353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5039-8D53-4728-ABC7-4D91E0B87C9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139-6D07-4C3D-9681-B46F6FFB7D7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373-E66B-4E89-B1E2-77CA584966E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F91A-31E1-4222-86F8-CB668C3D4F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9BEB-2E00-465E-851E-D2370FB174A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896F-552F-4C21-ABF7-F61AF029E67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139B-9F29-49AB-BE63-9E632ED62B1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4451-2493-4A5E-8090-8631B19593C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C6D1-0F17-47A0-9248-4CBF65C48A5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7B26-CD2A-45A7-B3C0-2A8EB826ED5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BBC1-D80E-4CF1-AE24-CCD6C3B6309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1AFC-184C-464B-937C-1DE31C122DA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82F7-4C03-4454-B499-A6EAC384800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DEA8-0EDF-4835-9C40-B9F70294D5E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6A4B-89B3-42D5-8258-224BD342CE5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1D2A-4935-4AF2-8911-BE6F7E043DF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32AF-6B52-4ACD-A86C-37D2D85B17A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A46C-3CE9-4F9B-A3E6-932278D749A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4198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4198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4198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4198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4198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4199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4199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481C-86F3-4942-B304-9BB4897F7F1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C333-4795-4598-A96F-293222E5D36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0931-A3B2-4122-B49F-D7CD5B04C34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0F44-C74A-4221-912F-26D7A66EA9F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2E43-1CAC-4DF6-882B-2D55A40602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B229-8266-4C50-8DB9-63F8F074283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36865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36866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乘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 Box 5"/>
          <p:cNvSpPr/>
          <p:nvPr/>
        </p:nvSpPr>
        <p:spPr>
          <a:xfrm>
            <a:off x="468360" y="1773360"/>
            <a:ext cx="7200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的几分之几是多少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乘分数的计算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乘法的简便计算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84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1"/>
          <a:stretch/>
        </p:blipFill>
        <p:spPr>
          <a:xfrm>
            <a:off x="539640" y="620640"/>
            <a:ext cx="7858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1" name="Text Box 4"/>
          <p:cNvSpPr/>
          <p:nvPr/>
        </p:nvSpPr>
        <p:spPr>
          <a:xfrm>
            <a:off x="716760" y="189000"/>
            <a:ext cx="149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2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3" name="Text Box 10"/>
          <p:cNvSpPr/>
          <p:nvPr/>
        </p:nvSpPr>
        <p:spPr>
          <a:xfrm>
            <a:off x="901800" y="260208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样计算呢？请你写出计算过程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4" name="Text Box 11"/>
          <p:cNvSpPr/>
          <p:nvPr/>
        </p:nvSpPr>
        <p:spPr>
          <a:xfrm>
            <a:off x="1116000" y="4400640"/>
            <a:ext cx="719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上面两个问题它们都是求什么呢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求一个数的几分之几是多少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5" name="Text Box 12"/>
          <p:cNvSpPr/>
          <p:nvPr/>
        </p:nvSpPr>
        <p:spPr>
          <a:xfrm>
            <a:off x="1117440" y="5319720"/>
            <a:ext cx="7199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上面两个算式的计算过程有什么相同之处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分子相乘的积做分子，分母相乘的积做分母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6" name="Text Box 16"/>
          <p:cNvSpPr/>
          <p:nvPr/>
        </p:nvSpPr>
        <p:spPr>
          <a:xfrm>
            <a:off x="828720" y="20448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问题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种玉米的面积是多少公顷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77" name="组合 27656"/>
          <p:cNvGrpSpPr/>
          <p:nvPr/>
        </p:nvGrpSpPr>
        <p:grpSpPr>
          <a:xfrm>
            <a:off x="1236600" y="3171960"/>
            <a:ext cx="4795560" cy="835920"/>
            <a:chOff x="1236600" y="3171960"/>
            <a:chExt cx="4795560" cy="835920"/>
          </a:xfrm>
        </p:grpSpPr>
        <p:sp>
          <p:nvSpPr>
            <p:cNvPr id="1778" name="Text Box 7"/>
            <p:cNvSpPr/>
            <p:nvPr/>
          </p:nvSpPr>
          <p:spPr>
            <a:xfrm>
              <a:off x="1236600" y="3394080"/>
              <a:ext cx="12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79" name="组合 27658"/>
            <p:cNvGrpSpPr/>
            <p:nvPr/>
          </p:nvGrpSpPr>
          <p:grpSpPr>
            <a:xfrm>
              <a:off x="2025720" y="3171960"/>
              <a:ext cx="4006440" cy="835920"/>
              <a:chOff x="2025720" y="3171960"/>
              <a:chExt cx="4006440" cy="835920"/>
            </a:xfrm>
          </p:grpSpPr>
          <p:grpSp>
            <p:nvGrpSpPr>
              <p:cNvPr id="1780" name="组合 27659"/>
              <p:cNvGrpSpPr/>
              <p:nvPr/>
            </p:nvGrpSpPr>
            <p:grpSpPr>
              <a:xfrm>
                <a:off x="2025720" y="3192480"/>
                <a:ext cx="1325160" cy="815400"/>
                <a:chOff x="2025720" y="3192480"/>
                <a:chExt cx="1325160" cy="815400"/>
              </a:xfrm>
            </p:grpSpPr>
            <p:grpSp>
              <p:nvGrpSpPr>
                <p:cNvPr id="1781" name="组合 27660"/>
                <p:cNvGrpSpPr/>
                <p:nvPr/>
              </p:nvGrpSpPr>
              <p:grpSpPr>
                <a:xfrm>
                  <a:off x="2025720" y="3192480"/>
                  <a:ext cx="533160" cy="815400"/>
                  <a:chOff x="2025720" y="3192480"/>
                  <a:chExt cx="533160" cy="815400"/>
                </a:xfrm>
              </p:grpSpPr>
              <p:sp>
                <p:nvSpPr>
                  <p:cNvPr id="1782" name="文本框 27661"/>
                  <p:cNvSpPr/>
                  <p:nvPr/>
                </p:nvSpPr>
                <p:spPr>
                  <a:xfrm>
                    <a:off x="2054160" y="35481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83" name="文本框 27662"/>
                  <p:cNvSpPr/>
                  <p:nvPr/>
                </p:nvSpPr>
                <p:spPr>
                  <a:xfrm>
                    <a:off x="2038320" y="31924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84" name="直接连接符 27663"/>
                  <p:cNvSpPr/>
                  <p:nvPr/>
                </p:nvSpPr>
                <p:spPr>
                  <a:xfrm>
                    <a:off x="2025720" y="36115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85" name="组合 27664"/>
                <p:cNvGrpSpPr/>
                <p:nvPr/>
              </p:nvGrpSpPr>
              <p:grpSpPr>
                <a:xfrm>
                  <a:off x="2817720" y="3192480"/>
                  <a:ext cx="533160" cy="815400"/>
                  <a:chOff x="2817720" y="3192480"/>
                  <a:chExt cx="533160" cy="815400"/>
                </a:xfrm>
              </p:grpSpPr>
              <p:sp>
                <p:nvSpPr>
                  <p:cNvPr id="1786" name="文本框 27665"/>
                  <p:cNvSpPr/>
                  <p:nvPr/>
                </p:nvSpPr>
                <p:spPr>
                  <a:xfrm>
                    <a:off x="2846160" y="35481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87" name="文本框 27666"/>
                  <p:cNvSpPr/>
                  <p:nvPr/>
                </p:nvSpPr>
                <p:spPr>
                  <a:xfrm>
                    <a:off x="2830320" y="31924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88" name="直接连接符 27667"/>
                  <p:cNvSpPr/>
                  <p:nvPr/>
                </p:nvSpPr>
                <p:spPr>
                  <a:xfrm>
                    <a:off x="2817720" y="36115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789" name="文本框 27668"/>
                <p:cNvSpPr/>
                <p:nvPr/>
              </p:nvSpPr>
              <p:spPr>
                <a:xfrm>
                  <a:off x="2367000" y="3434040"/>
                  <a:ext cx="64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90" name="文本框 27669"/>
              <p:cNvSpPr/>
              <p:nvPr/>
            </p:nvSpPr>
            <p:spPr>
              <a:xfrm>
                <a:off x="3155760" y="3398760"/>
                <a:ext cx="5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91" name="组合 27670"/>
              <p:cNvGrpSpPr/>
              <p:nvPr/>
            </p:nvGrpSpPr>
            <p:grpSpPr>
              <a:xfrm>
                <a:off x="3519360" y="3181320"/>
                <a:ext cx="850680" cy="815040"/>
                <a:chOff x="3519360" y="3181320"/>
                <a:chExt cx="850680" cy="815040"/>
              </a:xfrm>
            </p:grpSpPr>
            <p:sp>
              <p:nvSpPr>
                <p:cNvPr id="1792" name="文本框 27671"/>
                <p:cNvSpPr/>
                <p:nvPr/>
              </p:nvSpPr>
              <p:spPr>
                <a:xfrm>
                  <a:off x="3535200" y="3536640"/>
                  <a:ext cx="83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93" name="文本框 27672"/>
                <p:cNvSpPr/>
                <p:nvPr/>
              </p:nvSpPr>
              <p:spPr>
                <a:xfrm>
                  <a:off x="3519360" y="3181320"/>
                  <a:ext cx="850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94" name="直接连接符 27673"/>
                <p:cNvSpPr/>
                <p:nvPr/>
              </p:nvSpPr>
              <p:spPr>
                <a:xfrm>
                  <a:off x="3535200" y="3600360"/>
                  <a:ext cx="718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95" name="组合 27674"/>
              <p:cNvGrpSpPr/>
              <p:nvPr/>
            </p:nvGrpSpPr>
            <p:grpSpPr>
              <a:xfrm>
                <a:off x="4497120" y="3171960"/>
                <a:ext cx="504720" cy="815040"/>
                <a:chOff x="4497120" y="3171960"/>
                <a:chExt cx="504720" cy="815040"/>
              </a:xfrm>
            </p:grpSpPr>
            <p:sp>
              <p:nvSpPr>
                <p:cNvPr id="1796" name="文本框 27675"/>
                <p:cNvSpPr/>
                <p:nvPr/>
              </p:nvSpPr>
              <p:spPr>
                <a:xfrm>
                  <a:off x="4497120" y="35272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97" name="文本框 27676"/>
                <p:cNvSpPr/>
                <p:nvPr/>
              </p:nvSpPr>
              <p:spPr>
                <a:xfrm>
                  <a:off x="4566960" y="31719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98" name="直接连接符 27677"/>
                <p:cNvSpPr/>
                <p:nvPr/>
              </p:nvSpPr>
              <p:spPr>
                <a:xfrm>
                  <a:off x="4554000" y="35910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99" name="文本框 27678"/>
              <p:cNvSpPr/>
              <p:nvPr/>
            </p:nvSpPr>
            <p:spPr>
              <a:xfrm>
                <a:off x="4195800" y="3398760"/>
                <a:ext cx="50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0" name="文本框 27679"/>
              <p:cNvSpPr/>
              <p:nvPr/>
            </p:nvSpPr>
            <p:spPr>
              <a:xfrm>
                <a:off x="4806720" y="3398760"/>
                <a:ext cx="12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（公顷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802" name="图片 28674" descr=""/>
          <p:cNvPicPr/>
          <p:nvPr/>
        </p:nvPicPr>
        <p:blipFill>
          <a:blip r:embed="rId2"/>
          <a:stretch/>
        </p:blipFill>
        <p:spPr>
          <a:xfrm>
            <a:off x="324000" y="28584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9"/>
          <p:cNvSpPr/>
          <p:nvPr/>
        </p:nvSpPr>
        <p:spPr>
          <a:xfrm>
            <a:off x="5603760" y="2562120"/>
            <a:ext cx="462240" cy="6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4" name="Text Box 2"/>
          <p:cNvSpPr/>
          <p:nvPr/>
        </p:nvSpPr>
        <p:spPr>
          <a:xfrm>
            <a:off x="325440" y="1268280"/>
            <a:ext cx="5975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巩固练习，提升认识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5" name="Text Box 3"/>
          <p:cNvSpPr/>
          <p:nvPr/>
        </p:nvSpPr>
        <p:spPr>
          <a:xfrm>
            <a:off x="988920" y="270180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g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      是多少千克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6" name="Text Box 8"/>
          <p:cNvSpPr/>
          <p:nvPr/>
        </p:nvSpPr>
        <p:spPr>
          <a:xfrm>
            <a:off x="5249880" y="2679840"/>
            <a:ext cx="3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×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Text Box 10"/>
          <p:cNvSpPr/>
          <p:nvPr/>
        </p:nvSpPr>
        <p:spPr>
          <a:xfrm>
            <a:off x="1000080" y="371484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g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      是多少千克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8" name="Text Box 17"/>
          <p:cNvSpPr/>
          <p:nvPr/>
        </p:nvSpPr>
        <p:spPr>
          <a:xfrm>
            <a:off x="1027080" y="19782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只列式，不计算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9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0" name="Text Box 19"/>
          <p:cNvSpPr/>
          <p:nvPr/>
        </p:nvSpPr>
        <p:spPr>
          <a:xfrm>
            <a:off x="484200" y="189000"/>
            <a:ext cx="27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11" name="组合 29705"/>
          <p:cNvGrpSpPr/>
          <p:nvPr/>
        </p:nvGrpSpPr>
        <p:grpSpPr>
          <a:xfrm>
            <a:off x="1758960" y="2506680"/>
            <a:ext cx="523800" cy="815400"/>
            <a:chOff x="1758960" y="2506680"/>
            <a:chExt cx="523800" cy="815400"/>
          </a:xfrm>
        </p:grpSpPr>
        <p:sp>
          <p:nvSpPr>
            <p:cNvPr id="1812" name="文本框 29706"/>
            <p:cNvSpPr/>
            <p:nvPr/>
          </p:nvSpPr>
          <p:spPr>
            <a:xfrm>
              <a:off x="1778040" y="2862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3" name="文本框 29707"/>
            <p:cNvSpPr/>
            <p:nvPr/>
          </p:nvSpPr>
          <p:spPr>
            <a:xfrm>
              <a:off x="1781280" y="2506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4" name="直接连接符 29708"/>
            <p:cNvSpPr/>
            <p:nvPr/>
          </p:nvSpPr>
          <p:spPr>
            <a:xfrm>
              <a:off x="1758960" y="29257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15" name="组合 29709"/>
          <p:cNvGrpSpPr/>
          <p:nvPr/>
        </p:nvGrpSpPr>
        <p:grpSpPr>
          <a:xfrm>
            <a:off x="2724120" y="2492280"/>
            <a:ext cx="533160" cy="815400"/>
            <a:chOff x="2724120" y="2492280"/>
            <a:chExt cx="533160" cy="815400"/>
          </a:xfrm>
        </p:grpSpPr>
        <p:sp>
          <p:nvSpPr>
            <p:cNvPr id="1816" name="文本框 29710"/>
            <p:cNvSpPr/>
            <p:nvPr/>
          </p:nvSpPr>
          <p:spPr>
            <a:xfrm>
              <a:off x="2752560" y="2847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7" name="文本框 29711"/>
            <p:cNvSpPr/>
            <p:nvPr/>
          </p:nvSpPr>
          <p:spPr>
            <a:xfrm>
              <a:off x="273672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8" name="直接连接符 29712"/>
            <p:cNvSpPr/>
            <p:nvPr/>
          </p:nvSpPr>
          <p:spPr>
            <a:xfrm>
              <a:off x="2724120" y="2911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19" name="组合 29713"/>
          <p:cNvGrpSpPr/>
          <p:nvPr/>
        </p:nvGrpSpPr>
        <p:grpSpPr>
          <a:xfrm>
            <a:off x="2752560" y="3500280"/>
            <a:ext cx="533160" cy="815400"/>
            <a:chOff x="2752560" y="3500280"/>
            <a:chExt cx="533160" cy="815400"/>
          </a:xfrm>
        </p:grpSpPr>
        <p:sp>
          <p:nvSpPr>
            <p:cNvPr id="1820" name="文本框 29714"/>
            <p:cNvSpPr/>
            <p:nvPr/>
          </p:nvSpPr>
          <p:spPr>
            <a:xfrm>
              <a:off x="2781000" y="3855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1" name="文本框 29715"/>
            <p:cNvSpPr/>
            <p:nvPr/>
          </p:nvSpPr>
          <p:spPr>
            <a:xfrm>
              <a:off x="2765160" y="3500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2" name="直接连接符 29716"/>
            <p:cNvSpPr/>
            <p:nvPr/>
          </p:nvSpPr>
          <p:spPr>
            <a:xfrm>
              <a:off x="2752560" y="3919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3" name="组合 29717"/>
          <p:cNvGrpSpPr/>
          <p:nvPr/>
        </p:nvGrpSpPr>
        <p:grpSpPr>
          <a:xfrm>
            <a:off x="1704960" y="3497400"/>
            <a:ext cx="504720" cy="815040"/>
            <a:chOff x="1704960" y="3497400"/>
            <a:chExt cx="504720" cy="815040"/>
          </a:xfrm>
        </p:grpSpPr>
        <p:sp>
          <p:nvSpPr>
            <p:cNvPr id="1824" name="文本框 29718"/>
            <p:cNvSpPr/>
            <p:nvPr/>
          </p:nvSpPr>
          <p:spPr>
            <a:xfrm>
              <a:off x="1704960" y="3852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5" name="文本框 29719"/>
            <p:cNvSpPr/>
            <p:nvPr/>
          </p:nvSpPr>
          <p:spPr>
            <a:xfrm>
              <a:off x="1798560" y="3497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6" name="直接连接符 29720"/>
            <p:cNvSpPr/>
            <p:nvPr/>
          </p:nvSpPr>
          <p:spPr>
            <a:xfrm>
              <a:off x="1785960" y="3916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27" name="Rectangle 9"/>
          <p:cNvSpPr/>
          <p:nvPr/>
        </p:nvSpPr>
        <p:spPr>
          <a:xfrm>
            <a:off x="4884840" y="2562120"/>
            <a:ext cx="460440" cy="6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8" name="Text Box 8"/>
          <p:cNvSpPr/>
          <p:nvPr/>
        </p:nvSpPr>
        <p:spPr>
          <a:xfrm>
            <a:off x="5268960" y="3689280"/>
            <a:ext cx="3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×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9" name="Rectangle 9"/>
          <p:cNvSpPr/>
          <p:nvPr/>
        </p:nvSpPr>
        <p:spPr>
          <a:xfrm>
            <a:off x="5689440" y="3522600"/>
            <a:ext cx="460440" cy="6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30" name="组合 29724"/>
          <p:cNvGrpSpPr/>
          <p:nvPr/>
        </p:nvGrpSpPr>
        <p:grpSpPr>
          <a:xfrm>
            <a:off x="4916520" y="2438280"/>
            <a:ext cx="1263240" cy="834480"/>
            <a:chOff x="4916520" y="2438280"/>
            <a:chExt cx="1263240" cy="834480"/>
          </a:xfrm>
        </p:grpSpPr>
        <p:sp>
          <p:nvSpPr>
            <p:cNvPr id="1831" name="Text Box 8"/>
            <p:cNvSpPr/>
            <p:nvPr/>
          </p:nvSpPr>
          <p:spPr>
            <a:xfrm>
              <a:off x="5260680" y="2670120"/>
              <a:ext cx="338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32" name="组合 29726"/>
            <p:cNvGrpSpPr/>
            <p:nvPr/>
          </p:nvGrpSpPr>
          <p:grpSpPr>
            <a:xfrm>
              <a:off x="5646600" y="2438280"/>
              <a:ext cx="533160" cy="815400"/>
              <a:chOff x="5646600" y="2438280"/>
              <a:chExt cx="533160" cy="815400"/>
            </a:xfrm>
          </p:grpSpPr>
          <p:sp>
            <p:nvSpPr>
              <p:cNvPr id="1833" name="文本框 29727"/>
              <p:cNvSpPr/>
              <p:nvPr/>
            </p:nvSpPr>
            <p:spPr>
              <a:xfrm>
                <a:off x="5675040" y="2793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4" name="文本框 29728"/>
              <p:cNvSpPr/>
              <p:nvPr/>
            </p:nvSpPr>
            <p:spPr>
              <a:xfrm>
                <a:off x="5659200" y="2438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5" name="直接连接符 29729"/>
              <p:cNvSpPr/>
              <p:nvPr/>
            </p:nvSpPr>
            <p:spPr>
              <a:xfrm>
                <a:off x="5646600" y="2857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36" name="组合 29730"/>
            <p:cNvGrpSpPr/>
            <p:nvPr/>
          </p:nvGrpSpPr>
          <p:grpSpPr>
            <a:xfrm>
              <a:off x="4916520" y="2457360"/>
              <a:ext cx="523800" cy="815400"/>
              <a:chOff x="4916520" y="2457360"/>
              <a:chExt cx="523800" cy="815400"/>
            </a:xfrm>
          </p:grpSpPr>
          <p:sp>
            <p:nvSpPr>
              <p:cNvPr id="1837" name="文本框 29731"/>
              <p:cNvSpPr/>
              <p:nvPr/>
            </p:nvSpPr>
            <p:spPr>
              <a:xfrm>
                <a:off x="4935600" y="2813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8" name="文本框 29732"/>
              <p:cNvSpPr/>
              <p:nvPr/>
            </p:nvSpPr>
            <p:spPr>
              <a:xfrm>
                <a:off x="4938840" y="245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9" name="直接连接符 29733"/>
              <p:cNvSpPr/>
              <p:nvPr/>
            </p:nvSpPr>
            <p:spPr>
              <a:xfrm>
                <a:off x="4916520" y="2876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840" name="Rectangle 9"/>
          <p:cNvSpPr/>
          <p:nvPr/>
        </p:nvSpPr>
        <p:spPr>
          <a:xfrm>
            <a:off x="4859280" y="3522600"/>
            <a:ext cx="460440" cy="6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41" name="组合 29735"/>
          <p:cNvGrpSpPr/>
          <p:nvPr/>
        </p:nvGrpSpPr>
        <p:grpSpPr>
          <a:xfrm>
            <a:off x="4859280" y="3408480"/>
            <a:ext cx="1412640" cy="815040"/>
            <a:chOff x="4859280" y="3408480"/>
            <a:chExt cx="1412640" cy="815040"/>
          </a:xfrm>
        </p:grpSpPr>
        <p:grpSp>
          <p:nvGrpSpPr>
            <p:cNvPr id="1842" name="组合 29736"/>
            <p:cNvGrpSpPr/>
            <p:nvPr/>
          </p:nvGrpSpPr>
          <p:grpSpPr>
            <a:xfrm>
              <a:off x="4859280" y="3408480"/>
              <a:ext cx="504720" cy="815040"/>
              <a:chOff x="4859280" y="3408480"/>
              <a:chExt cx="504720" cy="815040"/>
            </a:xfrm>
          </p:grpSpPr>
          <p:sp>
            <p:nvSpPr>
              <p:cNvPr id="1843" name="文本框 29737"/>
              <p:cNvSpPr/>
              <p:nvPr/>
            </p:nvSpPr>
            <p:spPr>
              <a:xfrm>
                <a:off x="4859280" y="3763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4" name="文本框 29738"/>
              <p:cNvSpPr/>
              <p:nvPr/>
            </p:nvSpPr>
            <p:spPr>
              <a:xfrm>
                <a:off x="4952880" y="3408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5" name="直接连接符 29739"/>
              <p:cNvSpPr/>
              <p:nvPr/>
            </p:nvSpPr>
            <p:spPr>
              <a:xfrm>
                <a:off x="4940280" y="3827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46" name="组合 29740"/>
            <p:cNvGrpSpPr/>
            <p:nvPr/>
          </p:nvGrpSpPr>
          <p:grpSpPr>
            <a:xfrm>
              <a:off x="5738760" y="3408480"/>
              <a:ext cx="533160" cy="815040"/>
              <a:chOff x="5738760" y="3408480"/>
              <a:chExt cx="533160" cy="815040"/>
            </a:xfrm>
          </p:grpSpPr>
          <p:sp>
            <p:nvSpPr>
              <p:cNvPr id="1847" name="文本框 29741"/>
              <p:cNvSpPr/>
              <p:nvPr/>
            </p:nvSpPr>
            <p:spPr>
              <a:xfrm>
                <a:off x="5767200" y="3763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8" name="文本框 29742"/>
              <p:cNvSpPr/>
              <p:nvPr/>
            </p:nvSpPr>
            <p:spPr>
              <a:xfrm>
                <a:off x="5751360" y="3408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9" name="直接连接符 29743"/>
              <p:cNvSpPr/>
              <p:nvPr/>
            </p:nvSpPr>
            <p:spPr>
              <a:xfrm>
                <a:off x="5738760" y="3827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50" name="Text Box 8"/>
            <p:cNvSpPr/>
            <p:nvPr/>
          </p:nvSpPr>
          <p:spPr>
            <a:xfrm>
              <a:off x="5297400" y="3633840"/>
              <a:ext cx="3380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2"/>
          <p:cNvSpPr/>
          <p:nvPr/>
        </p:nvSpPr>
        <p:spPr>
          <a:xfrm>
            <a:off x="684360" y="1773360"/>
            <a:ext cx="726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2" name="Rectangle 2"/>
          <p:cNvSpPr/>
          <p:nvPr/>
        </p:nvSpPr>
        <p:spPr>
          <a:xfrm>
            <a:off x="625320" y="226224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无脊椎动物中游泳最快的是乌贼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它每分钟可游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     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3" name="Rectangle 2"/>
          <p:cNvSpPr/>
          <p:nvPr/>
        </p:nvSpPr>
        <p:spPr>
          <a:xfrm>
            <a:off x="611280" y="3643200"/>
            <a:ext cx="8532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李叔叔每分钟游的距离是乌贼的       。李叔叔每分钟游多少千米？     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4" name="Rectangle 2"/>
          <p:cNvSpPr/>
          <p:nvPr/>
        </p:nvSpPr>
        <p:spPr>
          <a:xfrm>
            <a:off x="620640" y="421164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乌贼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钟可以游多少千米？     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5" name="Rectangle 2"/>
          <p:cNvSpPr/>
          <p:nvPr/>
        </p:nvSpPr>
        <p:spPr>
          <a:xfrm>
            <a:off x="324000" y="5807160"/>
            <a:ext cx="799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      </a:t>
            </a:r>
            <a:br>
              <a:rPr sz="24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      </a:t>
            </a:r>
            <a:br>
              <a:rPr sz="24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6" name="Text Box 14"/>
          <p:cNvSpPr/>
          <p:nvPr/>
        </p:nvSpPr>
        <p:spPr>
          <a:xfrm>
            <a:off x="324000" y="527040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7" name="Rectangle 2"/>
          <p:cNvSpPr/>
          <p:nvPr/>
        </p:nvSpPr>
        <p:spPr>
          <a:xfrm>
            <a:off x="457200" y="633240"/>
            <a:ext cx="8458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8" name="Text Box 16"/>
          <p:cNvSpPr/>
          <p:nvPr/>
        </p:nvSpPr>
        <p:spPr>
          <a:xfrm>
            <a:off x="484200" y="189000"/>
            <a:ext cx="50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出示信息，明确问题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0" name="Rectangle 2"/>
          <p:cNvSpPr/>
          <p:nvPr/>
        </p:nvSpPr>
        <p:spPr>
          <a:xfrm>
            <a:off x="738360" y="4703760"/>
            <a:ext cx="756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问题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李叔叔每分钟游多少千米？     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61" name="组合 30731"/>
          <p:cNvGrpSpPr/>
          <p:nvPr/>
        </p:nvGrpSpPr>
        <p:grpSpPr>
          <a:xfrm>
            <a:off x="2843280" y="2421000"/>
            <a:ext cx="504720" cy="815400"/>
            <a:chOff x="2843280" y="2421000"/>
            <a:chExt cx="504720" cy="815400"/>
          </a:xfrm>
        </p:grpSpPr>
        <p:sp>
          <p:nvSpPr>
            <p:cNvPr id="1862" name="文本框 30732"/>
            <p:cNvSpPr/>
            <p:nvPr/>
          </p:nvSpPr>
          <p:spPr>
            <a:xfrm>
              <a:off x="2843280" y="2776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3" name="文本框 30733"/>
            <p:cNvSpPr/>
            <p:nvPr/>
          </p:nvSpPr>
          <p:spPr>
            <a:xfrm>
              <a:off x="2936880" y="242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4" name="直接连接符 30734"/>
            <p:cNvSpPr/>
            <p:nvPr/>
          </p:nvSpPr>
          <p:spPr>
            <a:xfrm>
              <a:off x="2924280" y="2840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65" name="图片 30735" descr="12"/>
          <p:cNvPicPr/>
          <p:nvPr/>
        </p:nvPicPr>
        <p:blipFill>
          <a:blip r:embed="rId1"/>
          <a:stretch/>
        </p:blipFill>
        <p:spPr>
          <a:xfrm>
            <a:off x="5435640" y="2224080"/>
            <a:ext cx="2997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866" name="组合 30736"/>
          <p:cNvGrpSpPr/>
          <p:nvPr/>
        </p:nvGrpSpPr>
        <p:grpSpPr>
          <a:xfrm>
            <a:off x="4932360" y="3500280"/>
            <a:ext cx="504720" cy="815400"/>
            <a:chOff x="4932360" y="3500280"/>
            <a:chExt cx="504720" cy="815400"/>
          </a:xfrm>
        </p:grpSpPr>
        <p:sp>
          <p:nvSpPr>
            <p:cNvPr id="1867" name="文本框 30737"/>
            <p:cNvSpPr/>
            <p:nvPr/>
          </p:nvSpPr>
          <p:spPr>
            <a:xfrm>
              <a:off x="4932360" y="3855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8" name="文本框 30738"/>
            <p:cNvSpPr/>
            <p:nvPr/>
          </p:nvSpPr>
          <p:spPr>
            <a:xfrm>
              <a:off x="5025960" y="3500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9" name="直接连接符 30739"/>
            <p:cNvSpPr/>
            <p:nvPr/>
          </p:nvSpPr>
          <p:spPr>
            <a:xfrm>
              <a:off x="5013360" y="3919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70" name="组合 30740"/>
          <p:cNvGrpSpPr/>
          <p:nvPr/>
        </p:nvGrpSpPr>
        <p:grpSpPr>
          <a:xfrm>
            <a:off x="1116000" y="5549760"/>
            <a:ext cx="8280360" cy="1312200"/>
            <a:chOff x="1116000" y="5549760"/>
            <a:chExt cx="8280360" cy="1312200"/>
          </a:xfrm>
        </p:grpSpPr>
        <p:sp>
          <p:nvSpPr>
            <p:cNvPr id="1871" name="Text Box 13"/>
            <p:cNvSpPr/>
            <p:nvPr/>
          </p:nvSpPr>
          <p:spPr>
            <a:xfrm>
              <a:off x="1116000" y="5670720"/>
              <a:ext cx="828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是怎样理解“李叔叔的游泳速度是乌贼的      ”这句话的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把乌贼的速度平均分成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李叔叔的游泳速度有这样的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72" name="组合 30742"/>
            <p:cNvGrpSpPr/>
            <p:nvPr/>
          </p:nvGrpSpPr>
          <p:grpSpPr>
            <a:xfrm>
              <a:off x="6299280" y="5549760"/>
              <a:ext cx="504720" cy="815400"/>
              <a:chOff x="6299280" y="5549760"/>
              <a:chExt cx="504720" cy="815400"/>
            </a:xfrm>
          </p:grpSpPr>
          <p:sp>
            <p:nvSpPr>
              <p:cNvPr id="1873" name="文本框 30743"/>
              <p:cNvSpPr/>
              <p:nvPr/>
            </p:nvSpPr>
            <p:spPr>
              <a:xfrm>
                <a:off x="6299280" y="5905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4" name="文本框 30744"/>
              <p:cNvSpPr/>
              <p:nvPr/>
            </p:nvSpPr>
            <p:spPr>
              <a:xfrm>
                <a:off x="6392880" y="5549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5" name="直接连接符 30745"/>
              <p:cNvSpPr/>
              <p:nvPr/>
            </p:nvSpPr>
            <p:spPr>
              <a:xfrm>
                <a:off x="6380280" y="5968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Rectangle 2"/>
          <p:cNvSpPr/>
          <p:nvPr/>
        </p:nvSpPr>
        <p:spPr>
          <a:xfrm>
            <a:off x="684360" y="1773360"/>
            <a:ext cx="726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7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8" name="Text Box 7"/>
          <p:cNvSpPr/>
          <p:nvPr/>
        </p:nvSpPr>
        <p:spPr>
          <a:xfrm>
            <a:off x="484200" y="18900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0" name="Rectangle 2"/>
          <p:cNvSpPr/>
          <p:nvPr/>
        </p:nvSpPr>
        <p:spPr>
          <a:xfrm>
            <a:off x="260280" y="5364000"/>
            <a:ext cx="7561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样计算呢？请你试着做一做。  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81" name="组合 31750"/>
          <p:cNvGrpSpPr/>
          <p:nvPr/>
        </p:nvGrpSpPr>
        <p:grpSpPr>
          <a:xfrm>
            <a:off x="592200" y="4221000"/>
            <a:ext cx="8028000" cy="1191240"/>
            <a:chOff x="592200" y="4221000"/>
            <a:chExt cx="8028000" cy="1191240"/>
          </a:xfrm>
        </p:grpSpPr>
        <p:sp>
          <p:nvSpPr>
            <p:cNvPr id="1882" name="Text Box 10"/>
            <p:cNvSpPr/>
            <p:nvPr/>
          </p:nvSpPr>
          <p:spPr>
            <a:xfrm>
              <a:off x="592200" y="4221000"/>
              <a:ext cx="802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求李叔叔每分钟游多少千米怎样列式？你是怎样想的？（求李叔叔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每分钟游多少千米就是求      的      是多少，列式：                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83" name="组合 31752"/>
            <p:cNvGrpSpPr/>
            <p:nvPr/>
          </p:nvGrpSpPr>
          <p:grpSpPr>
            <a:xfrm>
              <a:off x="3732480" y="4572000"/>
              <a:ext cx="504720" cy="815400"/>
              <a:chOff x="3732480" y="4572000"/>
              <a:chExt cx="504720" cy="815400"/>
            </a:xfrm>
          </p:grpSpPr>
          <p:sp>
            <p:nvSpPr>
              <p:cNvPr id="1884" name="文本框 31753"/>
              <p:cNvSpPr/>
              <p:nvPr/>
            </p:nvSpPr>
            <p:spPr>
              <a:xfrm>
                <a:off x="3732480" y="4927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5" name="文本框 31754"/>
              <p:cNvSpPr/>
              <p:nvPr/>
            </p:nvSpPr>
            <p:spPr>
              <a:xfrm>
                <a:off x="3826080" y="4572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6" name="直接连接符 31755"/>
              <p:cNvSpPr/>
              <p:nvPr/>
            </p:nvSpPr>
            <p:spPr>
              <a:xfrm>
                <a:off x="3813480" y="4991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87" name="组合 31756"/>
            <p:cNvGrpSpPr/>
            <p:nvPr/>
          </p:nvGrpSpPr>
          <p:grpSpPr>
            <a:xfrm>
              <a:off x="4408560" y="4572000"/>
              <a:ext cx="504720" cy="815400"/>
              <a:chOff x="4408560" y="4572000"/>
              <a:chExt cx="504720" cy="815400"/>
            </a:xfrm>
          </p:grpSpPr>
          <p:sp>
            <p:nvSpPr>
              <p:cNvPr id="1888" name="文本框 31757"/>
              <p:cNvSpPr/>
              <p:nvPr/>
            </p:nvSpPr>
            <p:spPr>
              <a:xfrm>
                <a:off x="4408560" y="4927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9" name="文本框 31758"/>
              <p:cNvSpPr/>
              <p:nvPr/>
            </p:nvSpPr>
            <p:spPr>
              <a:xfrm>
                <a:off x="4502160" y="4572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0" name="直接连接符 31759"/>
              <p:cNvSpPr/>
              <p:nvPr/>
            </p:nvSpPr>
            <p:spPr>
              <a:xfrm>
                <a:off x="4489560" y="4991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91" name="组合 31760"/>
            <p:cNvGrpSpPr/>
            <p:nvPr/>
          </p:nvGrpSpPr>
          <p:grpSpPr>
            <a:xfrm>
              <a:off x="6534360" y="4578480"/>
              <a:ext cx="1297080" cy="816840"/>
              <a:chOff x="6534360" y="4578480"/>
              <a:chExt cx="1297080" cy="816840"/>
            </a:xfrm>
          </p:grpSpPr>
          <p:grpSp>
            <p:nvGrpSpPr>
              <p:cNvPr id="1892" name="组合 31761"/>
              <p:cNvGrpSpPr/>
              <p:nvPr/>
            </p:nvGrpSpPr>
            <p:grpSpPr>
              <a:xfrm>
                <a:off x="6534360" y="4579920"/>
                <a:ext cx="504720" cy="815400"/>
                <a:chOff x="6534360" y="4579920"/>
                <a:chExt cx="504720" cy="815400"/>
              </a:xfrm>
            </p:grpSpPr>
            <p:sp>
              <p:nvSpPr>
                <p:cNvPr id="1893" name="文本框 31762"/>
                <p:cNvSpPr/>
                <p:nvPr/>
              </p:nvSpPr>
              <p:spPr>
                <a:xfrm>
                  <a:off x="6534360" y="49356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94" name="文本框 31763"/>
                <p:cNvSpPr/>
                <p:nvPr/>
              </p:nvSpPr>
              <p:spPr>
                <a:xfrm>
                  <a:off x="6627960" y="45799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95" name="直接连接符 31764"/>
                <p:cNvSpPr/>
                <p:nvPr/>
              </p:nvSpPr>
              <p:spPr>
                <a:xfrm>
                  <a:off x="6615360" y="49989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96" name="组合 31765"/>
              <p:cNvGrpSpPr/>
              <p:nvPr/>
            </p:nvGrpSpPr>
            <p:grpSpPr>
              <a:xfrm>
                <a:off x="7326720" y="4578480"/>
                <a:ext cx="504720" cy="815400"/>
                <a:chOff x="7326720" y="4578480"/>
                <a:chExt cx="504720" cy="815400"/>
              </a:xfrm>
            </p:grpSpPr>
            <p:sp>
              <p:nvSpPr>
                <p:cNvPr id="1897" name="文本框 31766"/>
                <p:cNvSpPr/>
                <p:nvPr/>
              </p:nvSpPr>
              <p:spPr>
                <a:xfrm>
                  <a:off x="7326720" y="4934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4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98" name="文本框 31767"/>
                <p:cNvSpPr/>
                <p:nvPr/>
              </p:nvSpPr>
              <p:spPr>
                <a:xfrm>
                  <a:off x="7420320" y="4578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99" name="直接连接符 31768"/>
                <p:cNvSpPr/>
                <p:nvPr/>
              </p:nvSpPr>
              <p:spPr>
                <a:xfrm>
                  <a:off x="7407720" y="4997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900" name="文本框 31769"/>
              <p:cNvSpPr/>
              <p:nvPr/>
            </p:nvSpPr>
            <p:spPr>
              <a:xfrm>
                <a:off x="6963120" y="479592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01" name="Rectangle 2"/>
          <p:cNvSpPr/>
          <p:nvPr/>
        </p:nvSpPr>
        <p:spPr>
          <a:xfrm>
            <a:off x="625320" y="226224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无脊椎动物中游泳最快的是乌贼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它每分钟可游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     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02" name="组合 31771"/>
          <p:cNvGrpSpPr/>
          <p:nvPr/>
        </p:nvGrpSpPr>
        <p:grpSpPr>
          <a:xfrm>
            <a:off x="2843280" y="2421000"/>
            <a:ext cx="504720" cy="815400"/>
            <a:chOff x="2843280" y="2421000"/>
            <a:chExt cx="504720" cy="815400"/>
          </a:xfrm>
        </p:grpSpPr>
        <p:sp>
          <p:nvSpPr>
            <p:cNvPr id="1903" name="文本框 31772"/>
            <p:cNvSpPr/>
            <p:nvPr/>
          </p:nvSpPr>
          <p:spPr>
            <a:xfrm>
              <a:off x="2843280" y="2776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04" name="文本框 31773"/>
            <p:cNvSpPr/>
            <p:nvPr/>
          </p:nvSpPr>
          <p:spPr>
            <a:xfrm>
              <a:off x="2936880" y="242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05" name="直接连接符 31774"/>
            <p:cNvSpPr/>
            <p:nvPr/>
          </p:nvSpPr>
          <p:spPr>
            <a:xfrm>
              <a:off x="2924280" y="2840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906" name="图片 31775" descr="12"/>
          <p:cNvPicPr/>
          <p:nvPr/>
        </p:nvPicPr>
        <p:blipFill>
          <a:blip r:embed="rId1"/>
          <a:stretch/>
        </p:blipFill>
        <p:spPr>
          <a:xfrm>
            <a:off x="5435640" y="2224080"/>
            <a:ext cx="2997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Rectangle 2"/>
          <p:cNvSpPr/>
          <p:nvPr/>
        </p:nvSpPr>
        <p:spPr>
          <a:xfrm>
            <a:off x="684360" y="1773360"/>
            <a:ext cx="726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8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484200" y="189000"/>
            <a:ext cx="33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890640" y="22003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1" name="Rectangle 2"/>
          <p:cNvSpPr/>
          <p:nvPr/>
        </p:nvSpPr>
        <p:spPr>
          <a:xfrm>
            <a:off x="684360" y="5589720"/>
            <a:ext cx="756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较三种约分的过程有什么不同，你喜欢哪个？说说你的想法。 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2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3" name="文本框 32775"/>
          <p:cNvSpPr/>
          <p:nvPr/>
        </p:nvSpPr>
        <p:spPr>
          <a:xfrm>
            <a:off x="5608800" y="2219400"/>
            <a:ext cx="13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14" name="组合 32776"/>
          <p:cNvGrpSpPr/>
          <p:nvPr/>
        </p:nvGrpSpPr>
        <p:grpSpPr>
          <a:xfrm>
            <a:off x="1920960" y="1989000"/>
            <a:ext cx="3835440" cy="829440"/>
            <a:chOff x="1920960" y="1989000"/>
            <a:chExt cx="3835440" cy="829440"/>
          </a:xfrm>
        </p:grpSpPr>
        <p:grpSp>
          <p:nvGrpSpPr>
            <p:cNvPr id="1915" name="组合 32777"/>
            <p:cNvGrpSpPr/>
            <p:nvPr/>
          </p:nvGrpSpPr>
          <p:grpSpPr>
            <a:xfrm>
              <a:off x="3370680" y="1998360"/>
              <a:ext cx="1008000" cy="815400"/>
              <a:chOff x="3370680" y="1998360"/>
              <a:chExt cx="1008000" cy="815400"/>
            </a:xfrm>
          </p:grpSpPr>
          <p:sp>
            <p:nvSpPr>
              <p:cNvPr id="1916" name="文本框 32778"/>
              <p:cNvSpPr/>
              <p:nvPr/>
            </p:nvSpPr>
            <p:spPr>
              <a:xfrm>
                <a:off x="3370680" y="2354040"/>
                <a:ext cx="100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×4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7" name="文本框 32779"/>
              <p:cNvSpPr/>
              <p:nvPr/>
            </p:nvSpPr>
            <p:spPr>
              <a:xfrm>
                <a:off x="3502440" y="1998360"/>
                <a:ext cx="84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×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8" name="直接连接符 32780"/>
              <p:cNvSpPr/>
              <p:nvPr/>
            </p:nvSpPr>
            <p:spPr>
              <a:xfrm>
                <a:off x="3470760" y="2417400"/>
                <a:ext cx="82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19" name="组合 32781"/>
            <p:cNvGrpSpPr/>
            <p:nvPr/>
          </p:nvGrpSpPr>
          <p:grpSpPr>
            <a:xfrm>
              <a:off x="1920960" y="1989000"/>
              <a:ext cx="1297080" cy="816840"/>
              <a:chOff x="1920960" y="1989000"/>
              <a:chExt cx="1297080" cy="816840"/>
            </a:xfrm>
          </p:grpSpPr>
          <p:grpSp>
            <p:nvGrpSpPr>
              <p:cNvPr id="1920" name="组合 32782"/>
              <p:cNvGrpSpPr/>
              <p:nvPr/>
            </p:nvGrpSpPr>
            <p:grpSpPr>
              <a:xfrm>
                <a:off x="1920960" y="1990440"/>
                <a:ext cx="504720" cy="815400"/>
                <a:chOff x="1920960" y="1990440"/>
                <a:chExt cx="504720" cy="815400"/>
              </a:xfrm>
            </p:grpSpPr>
            <p:sp>
              <p:nvSpPr>
                <p:cNvPr id="1921" name="文本框 32783"/>
                <p:cNvSpPr/>
                <p:nvPr/>
              </p:nvSpPr>
              <p:spPr>
                <a:xfrm>
                  <a:off x="1920960" y="23461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22" name="文本框 32784"/>
                <p:cNvSpPr/>
                <p:nvPr/>
              </p:nvSpPr>
              <p:spPr>
                <a:xfrm>
                  <a:off x="2014560" y="19904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23" name="直接连接符 32785"/>
                <p:cNvSpPr/>
                <p:nvPr/>
              </p:nvSpPr>
              <p:spPr>
                <a:xfrm>
                  <a:off x="2001960" y="24094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924" name="组合 32786"/>
              <p:cNvGrpSpPr/>
              <p:nvPr/>
            </p:nvGrpSpPr>
            <p:grpSpPr>
              <a:xfrm>
                <a:off x="2713320" y="1989000"/>
                <a:ext cx="504720" cy="815400"/>
                <a:chOff x="2713320" y="1989000"/>
                <a:chExt cx="504720" cy="815400"/>
              </a:xfrm>
            </p:grpSpPr>
            <p:sp>
              <p:nvSpPr>
                <p:cNvPr id="1925" name="文本框 32787"/>
                <p:cNvSpPr/>
                <p:nvPr/>
              </p:nvSpPr>
              <p:spPr>
                <a:xfrm>
                  <a:off x="2713320" y="2344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26" name="文本框 32788"/>
                <p:cNvSpPr/>
                <p:nvPr/>
              </p:nvSpPr>
              <p:spPr>
                <a:xfrm>
                  <a:off x="2806920" y="1989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27" name="直接连接符 32789"/>
                <p:cNvSpPr/>
                <p:nvPr/>
              </p:nvSpPr>
              <p:spPr>
                <a:xfrm>
                  <a:off x="2794320" y="24080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928" name="文本框 32790"/>
              <p:cNvSpPr/>
              <p:nvPr/>
            </p:nvSpPr>
            <p:spPr>
              <a:xfrm>
                <a:off x="2349720" y="220644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29" name="文本框 32791"/>
            <p:cNvSpPr/>
            <p:nvPr/>
          </p:nvSpPr>
          <p:spPr>
            <a:xfrm>
              <a:off x="3092760" y="2205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0" name="文本框 32792"/>
            <p:cNvSpPr/>
            <p:nvPr/>
          </p:nvSpPr>
          <p:spPr>
            <a:xfrm>
              <a:off x="4240440" y="22096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31" name="组合 32793"/>
            <p:cNvGrpSpPr/>
            <p:nvPr/>
          </p:nvGrpSpPr>
          <p:grpSpPr>
            <a:xfrm>
              <a:off x="5251680" y="2000160"/>
              <a:ext cx="504720" cy="815040"/>
              <a:chOff x="5251680" y="2000160"/>
              <a:chExt cx="504720" cy="815040"/>
            </a:xfrm>
          </p:grpSpPr>
          <p:sp>
            <p:nvSpPr>
              <p:cNvPr id="1932" name="文本框 32794"/>
              <p:cNvSpPr/>
              <p:nvPr/>
            </p:nvSpPr>
            <p:spPr>
              <a:xfrm>
                <a:off x="5251680" y="2355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3" name="文本框 32795"/>
              <p:cNvSpPr/>
              <p:nvPr/>
            </p:nvSpPr>
            <p:spPr>
              <a:xfrm>
                <a:off x="5345280" y="2000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4" name="直接连接符 32796"/>
              <p:cNvSpPr/>
              <p:nvPr/>
            </p:nvSpPr>
            <p:spPr>
              <a:xfrm>
                <a:off x="5332680" y="2418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35" name="组合 32797"/>
            <p:cNvGrpSpPr/>
            <p:nvPr/>
          </p:nvGrpSpPr>
          <p:grpSpPr>
            <a:xfrm>
              <a:off x="4538880" y="2003400"/>
              <a:ext cx="772920" cy="815040"/>
              <a:chOff x="4538880" y="2003400"/>
              <a:chExt cx="772920" cy="815040"/>
            </a:xfrm>
          </p:grpSpPr>
          <p:sp>
            <p:nvSpPr>
              <p:cNvPr id="1936" name="文本框 32798"/>
              <p:cNvSpPr/>
              <p:nvPr/>
            </p:nvSpPr>
            <p:spPr>
              <a:xfrm>
                <a:off x="4538880" y="23587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5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7" name="文本框 32799"/>
              <p:cNvSpPr/>
              <p:nvPr/>
            </p:nvSpPr>
            <p:spPr>
              <a:xfrm>
                <a:off x="4613400" y="2003400"/>
                <a:ext cx="69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8" name="直接连接符 32800"/>
              <p:cNvSpPr/>
              <p:nvPr/>
            </p:nvSpPr>
            <p:spPr>
              <a:xfrm>
                <a:off x="4619520" y="2422080"/>
                <a:ext cx="42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39" name="文本框 32801"/>
            <p:cNvSpPr/>
            <p:nvPr/>
          </p:nvSpPr>
          <p:spPr>
            <a:xfrm>
              <a:off x="4954680" y="22190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40" name="直接连接符 32802"/>
          <p:cNvSpPr/>
          <p:nvPr/>
        </p:nvSpPr>
        <p:spPr>
          <a:xfrm>
            <a:off x="4691160" y="2176560"/>
            <a:ext cx="306360" cy="152280"/>
          </a:xfrm>
          <a:prstGeom prst="line">
            <a:avLst/>
          </a:prstGeom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1" name="直接连接符 32803"/>
          <p:cNvSpPr/>
          <p:nvPr/>
        </p:nvSpPr>
        <p:spPr>
          <a:xfrm>
            <a:off x="4656240" y="2541600"/>
            <a:ext cx="431640" cy="142920"/>
          </a:xfrm>
          <a:prstGeom prst="line">
            <a:avLst/>
          </a:prstGeom>
          <a:ln w="1908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2" name="文本框 32804"/>
          <p:cNvSpPr/>
          <p:nvPr/>
        </p:nvSpPr>
        <p:spPr>
          <a:xfrm>
            <a:off x="4681440" y="17924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3" name="文本框 32805"/>
          <p:cNvSpPr/>
          <p:nvPr/>
        </p:nvSpPr>
        <p:spPr>
          <a:xfrm>
            <a:off x="4627440" y="2647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44" name="组合 32806"/>
          <p:cNvGrpSpPr/>
          <p:nvPr/>
        </p:nvGrpSpPr>
        <p:grpSpPr>
          <a:xfrm>
            <a:off x="890640" y="2959200"/>
            <a:ext cx="5265720" cy="1195920"/>
            <a:chOff x="890640" y="2959200"/>
            <a:chExt cx="5265720" cy="1195920"/>
          </a:xfrm>
        </p:grpSpPr>
        <p:sp>
          <p:nvSpPr>
            <p:cNvPr id="1945" name="Text Box 8"/>
            <p:cNvSpPr/>
            <p:nvPr/>
          </p:nvSpPr>
          <p:spPr>
            <a:xfrm>
              <a:off x="890640" y="333540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46" name="组合 32808"/>
            <p:cNvGrpSpPr/>
            <p:nvPr/>
          </p:nvGrpSpPr>
          <p:grpSpPr>
            <a:xfrm>
              <a:off x="1913040" y="2959200"/>
              <a:ext cx="4243320" cy="1195920"/>
              <a:chOff x="1913040" y="2959200"/>
              <a:chExt cx="4243320" cy="1195920"/>
            </a:xfrm>
          </p:grpSpPr>
          <p:grpSp>
            <p:nvGrpSpPr>
              <p:cNvPr id="1947" name="组合 32809"/>
              <p:cNvGrpSpPr/>
              <p:nvPr/>
            </p:nvGrpSpPr>
            <p:grpSpPr>
              <a:xfrm>
                <a:off x="4505400" y="3124440"/>
                <a:ext cx="504720" cy="815040"/>
                <a:chOff x="4505400" y="3124440"/>
                <a:chExt cx="504720" cy="815040"/>
              </a:xfrm>
            </p:grpSpPr>
            <p:sp>
              <p:nvSpPr>
                <p:cNvPr id="1948" name="文本框 32810"/>
                <p:cNvSpPr/>
                <p:nvPr/>
              </p:nvSpPr>
              <p:spPr>
                <a:xfrm>
                  <a:off x="4505400" y="34797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49" name="文本框 32811"/>
                <p:cNvSpPr/>
                <p:nvPr/>
              </p:nvSpPr>
              <p:spPr>
                <a:xfrm>
                  <a:off x="4599000" y="31244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50" name="直接连接符 32812"/>
                <p:cNvSpPr/>
                <p:nvPr/>
              </p:nvSpPr>
              <p:spPr>
                <a:xfrm>
                  <a:off x="4586400" y="35431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951" name="组合 32813"/>
              <p:cNvGrpSpPr/>
              <p:nvPr/>
            </p:nvGrpSpPr>
            <p:grpSpPr>
              <a:xfrm>
                <a:off x="1913040" y="2959200"/>
                <a:ext cx="4243320" cy="1195920"/>
                <a:chOff x="1913040" y="2959200"/>
                <a:chExt cx="4243320" cy="1195920"/>
              </a:xfrm>
            </p:grpSpPr>
            <p:grpSp>
              <p:nvGrpSpPr>
                <p:cNvPr id="1952" name="组合 32814"/>
                <p:cNvGrpSpPr/>
                <p:nvPr/>
              </p:nvGrpSpPr>
              <p:grpSpPr>
                <a:xfrm>
                  <a:off x="3362400" y="3132360"/>
                  <a:ext cx="1008000" cy="815040"/>
                  <a:chOff x="3362400" y="3132360"/>
                  <a:chExt cx="1008000" cy="815040"/>
                </a:xfrm>
              </p:grpSpPr>
              <p:sp>
                <p:nvSpPr>
                  <p:cNvPr id="1953" name="文本框 32815"/>
                  <p:cNvSpPr/>
                  <p:nvPr/>
                </p:nvSpPr>
                <p:spPr>
                  <a:xfrm>
                    <a:off x="3362400" y="3487680"/>
                    <a:ext cx="1008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10×4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4" name="文本框 32816"/>
                  <p:cNvSpPr/>
                  <p:nvPr/>
                </p:nvSpPr>
                <p:spPr>
                  <a:xfrm>
                    <a:off x="3494160" y="3132360"/>
                    <a:ext cx="843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9×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5" name="直接连接符 32817"/>
                  <p:cNvSpPr/>
                  <p:nvPr/>
                </p:nvSpPr>
                <p:spPr>
                  <a:xfrm>
                    <a:off x="3462480" y="3551040"/>
                    <a:ext cx="826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956" name="组合 32818"/>
                <p:cNvGrpSpPr/>
                <p:nvPr/>
              </p:nvGrpSpPr>
              <p:grpSpPr>
                <a:xfrm>
                  <a:off x="1913040" y="2959200"/>
                  <a:ext cx="4243320" cy="1195920"/>
                  <a:chOff x="1913040" y="2959200"/>
                  <a:chExt cx="4243320" cy="1195920"/>
                </a:xfrm>
              </p:grpSpPr>
              <p:sp>
                <p:nvSpPr>
                  <p:cNvPr id="1957" name="直接连接符 32819"/>
                  <p:cNvSpPr/>
                  <p:nvPr/>
                </p:nvSpPr>
                <p:spPr>
                  <a:xfrm>
                    <a:off x="3516480" y="3286080"/>
                    <a:ext cx="306360" cy="15264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8" name="直接连接符 32820"/>
                  <p:cNvSpPr/>
                  <p:nvPr/>
                </p:nvSpPr>
                <p:spPr>
                  <a:xfrm>
                    <a:off x="3938760" y="3319560"/>
                    <a:ext cx="306360" cy="15228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959" name="组合 32821"/>
                  <p:cNvGrpSpPr/>
                  <p:nvPr/>
                </p:nvGrpSpPr>
                <p:grpSpPr>
                  <a:xfrm>
                    <a:off x="1913040" y="2959200"/>
                    <a:ext cx="4243320" cy="1195920"/>
                    <a:chOff x="1913040" y="2959200"/>
                    <a:chExt cx="4243320" cy="1195920"/>
                  </a:xfrm>
                </p:grpSpPr>
                <p:grpSp>
                  <p:nvGrpSpPr>
                    <p:cNvPr id="1960" name="组合 32822"/>
                    <p:cNvGrpSpPr/>
                    <p:nvPr/>
                  </p:nvGrpSpPr>
                  <p:grpSpPr>
                    <a:xfrm>
                      <a:off x="1913040" y="3122640"/>
                      <a:ext cx="1297080" cy="816840"/>
                      <a:chOff x="1913040" y="3122640"/>
                      <a:chExt cx="1297080" cy="816840"/>
                    </a:xfrm>
                  </p:grpSpPr>
                  <p:grpSp>
                    <p:nvGrpSpPr>
                      <p:cNvPr id="1961" name="组合 32823"/>
                      <p:cNvGrpSpPr/>
                      <p:nvPr/>
                    </p:nvGrpSpPr>
                    <p:grpSpPr>
                      <a:xfrm>
                        <a:off x="1913040" y="3124080"/>
                        <a:ext cx="504720" cy="815400"/>
                        <a:chOff x="1913040" y="3124080"/>
                        <a:chExt cx="504720" cy="815400"/>
                      </a:xfrm>
                    </p:grpSpPr>
                    <p:sp>
                      <p:nvSpPr>
                        <p:cNvPr id="1962" name="文本框 32824"/>
                        <p:cNvSpPr/>
                        <p:nvPr/>
                      </p:nvSpPr>
                      <p:spPr>
                        <a:xfrm>
                          <a:off x="1913040" y="3479760"/>
                          <a:ext cx="50472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20000"/>
                            </a:lnSpc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2000" spc="-1" strike="noStrike" u="sng">
                              <a:solidFill>
                                <a:srgbClr val="000000"/>
                              </a:solidFill>
                              <a:uFillTx/>
                              <a:latin typeface="Arial"/>
                              <a:ea typeface="宋体"/>
                            </a:rPr>
                            <a:t>10</a:t>
                          </a:r>
                          <a:endPara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3" name="文本框 32825"/>
                        <p:cNvSpPr/>
                        <p:nvPr/>
                      </p:nvSpPr>
                      <p:spPr>
                        <a:xfrm>
                          <a:off x="2006640" y="3124080"/>
                          <a:ext cx="3603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20000"/>
                            </a:lnSpc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2000" spc="-1" strike="noStrike" u="sng">
                              <a:solidFill>
                                <a:srgbClr val="000000"/>
                              </a:solidFill>
                              <a:uFillTx/>
                              <a:latin typeface="Arial"/>
                              <a:ea typeface="宋体"/>
                            </a:rPr>
                            <a:t>9</a:t>
                          </a:r>
                          <a:endPara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4" name="直接连接符 32826"/>
                        <p:cNvSpPr/>
                        <p:nvPr/>
                      </p:nvSpPr>
                      <p:spPr>
                        <a:xfrm>
                          <a:off x="1994040" y="3543120"/>
                          <a:ext cx="3603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i="1" lang="en-US" sz="24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65" name="组合 32827"/>
                      <p:cNvGrpSpPr/>
                      <p:nvPr/>
                    </p:nvGrpSpPr>
                    <p:grpSpPr>
                      <a:xfrm>
                        <a:off x="2705400" y="3122640"/>
                        <a:ext cx="504720" cy="815400"/>
                        <a:chOff x="2705400" y="3122640"/>
                        <a:chExt cx="504720" cy="815400"/>
                      </a:xfrm>
                    </p:grpSpPr>
                    <p:sp>
                      <p:nvSpPr>
                        <p:cNvPr id="1966" name="文本框 32828"/>
                        <p:cNvSpPr/>
                        <p:nvPr/>
                      </p:nvSpPr>
                      <p:spPr>
                        <a:xfrm>
                          <a:off x="2705400" y="3478320"/>
                          <a:ext cx="50472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20000"/>
                            </a:lnSpc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2000" spc="-1" strike="noStrike" u="sng">
                              <a:solidFill>
                                <a:srgbClr val="000000"/>
                              </a:solidFill>
                              <a:uFillTx/>
                              <a:latin typeface="Arial"/>
                              <a:ea typeface="宋体"/>
                            </a:rPr>
                            <a:t>45</a:t>
                          </a:r>
                          <a:endPara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7" name="文本框 32829"/>
                        <p:cNvSpPr/>
                        <p:nvPr/>
                      </p:nvSpPr>
                      <p:spPr>
                        <a:xfrm>
                          <a:off x="2799000" y="3122640"/>
                          <a:ext cx="3603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20000"/>
                            </a:lnSpc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2000" spc="-1" strike="noStrike" u="sng">
                              <a:solidFill>
                                <a:srgbClr val="000000"/>
                              </a:solidFill>
                              <a:uFillTx/>
                              <a:latin typeface="Arial"/>
                              <a:ea typeface="宋体"/>
                            </a:rPr>
                            <a:t>4</a:t>
                          </a:r>
                          <a:endPara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8" name="直接连接符 32830"/>
                        <p:cNvSpPr/>
                        <p:nvPr/>
                      </p:nvSpPr>
                      <p:spPr>
                        <a:xfrm>
                          <a:off x="2786400" y="3541680"/>
                          <a:ext cx="3603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i="1" lang="en-US" sz="24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969" name="文本框 32831"/>
                      <p:cNvSpPr/>
                      <p:nvPr/>
                    </p:nvSpPr>
                    <p:spPr>
                      <a:xfrm>
                        <a:off x="2341800" y="3340080"/>
                        <a:ext cx="358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  <a:ea typeface="楷体_GB2312"/>
                          </a:rPr>
                          <a:t>×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70" name="文本框 32832"/>
                    <p:cNvSpPr/>
                    <p:nvPr/>
                  </p:nvSpPr>
                  <p:spPr>
                    <a:xfrm>
                      <a:off x="3084840" y="3338640"/>
                      <a:ext cx="504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＝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1" name="文本框 32833"/>
                    <p:cNvSpPr/>
                    <p:nvPr/>
                  </p:nvSpPr>
                  <p:spPr>
                    <a:xfrm>
                      <a:off x="4208760" y="3343320"/>
                      <a:ext cx="504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＝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2" name="直接连接符 32834"/>
                    <p:cNvSpPr/>
                    <p:nvPr/>
                  </p:nvSpPr>
                  <p:spPr>
                    <a:xfrm>
                      <a:off x="3459240" y="3637080"/>
                      <a:ext cx="306360" cy="152280"/>
                    </a:xfrm>
                    <a:prstGeom prst="line">
                      <a:avLst/>
                    </a:prstGeom>
                    <a:ln w="19080">
                      <a:solidFill>
                        <a:srgbClr val="66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3" name="直接连接符 32835"/>
                    <p:cNvSpPr/>
                    <p:nvPr/>
                  </p:nvSpPr>
                  <p:spPr>
                    <a:xfrm>
                      <a:off x="3983400" y="3646440"/>
                      <a:ext cx="306360" cy="152640"/>
                    </a:xfrm>
                    <a:prstGeom prst="line">
                      <a:avLst/>
                    </a:prstGeom>
                    <a:ln w="19080">
                      <a:solidFill>
                        <a:srgbClr val="66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4" name="文本框 32836"/>
                    <p:cNvSpPr/>
                    <p:nvPr/>
                  </p:nvSpPr>
                  <p:spPr>
                    <a:xfrm>
                      <a:off x="4835880" y="3338640"/>
                      <a:ext cx="13204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（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km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5" name="文本框 32837"/>
                    <p:cNvSpPr/>
                    <p:nvPr/>
                  </p:nvSpPr>
                  <p:spPr>
                    <a:xfrm>
                      <a:off x="3468960" y="2959200"/>
                      <a:ext cx="4316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6" name="文本框 32838"/>
                    <p:cNvSpPr/>
                    <p:nvPr/>
                  </p:nvSpPr>
                  <p:spPr>
                    <a:xfrm>
                      <a:off x="3894480" y="2965680"/>
                      <a:ext cx="4316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7" name="文本框 32839"/>
                    <p:cNvSpPr/>
                    <p:nvPr/>
                  </p:nvSpPr>
                  <p:spPr>
                    <a:xfrm>
                      <a:off x="3468960" y="3751200"/>
                      <a:ext cx="4316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8" name="文本框 32840"/>
                    <p:cNvSpPr/>
                    <p:nvPr/>
                  </p:nvSpPr>
                  <p:spPr>
                    <a:xfrm>
                      <a:off x="4000680" y="3756240"/>
                      <a:ext cx="4316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979" name="组合 32841"/>
          <p:cNvGrpSpPr/>
          <p:nvPr/>
        </p:nvGrpSpPr>
        <p:grpSpPr>
          <a:xfrm>
            <a:off x="895320" y="4179960"/>
            <a:ext cx="5692320" cy="1236960"/>
            <a:chOff x="895320" y="4179960"/>
            <a:chExt cx="5692320" cy="1236960"/>
          </a:xfrm>
        </p:grpSpPr>
        <p:sp>
          <p:nvSpPr>
            <p:cNvPr id="1980" name="Text Box 11"/>
            <p:cNvSpPr/>
            <p:nvPr/>
          </p:nvSpPr>
          <p:spPr>
            <a:xfrm>
              <a:off x="895320" y="45687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81" name="组合 32843"/>
            <p:cNvGrpSpPr/>
            <p:nvPr/>
          </p:nvGrpSpPr>
          <p:grpSpPr>
            <a:xfrm>
              <a:off x="1935000" y="4361040"/>
              <a:ext cx="4652640" cy="829080"/>
              <a:chOff x="1935000" y="4361040"/>
              <a:chExt cx="4652640" cy="829080"/>
            </a:xfrm>
          </p:grpSpPr>
          <p:grpSp>
            <p:nvGrpSpPr>
              <p:cNvPr id="1982" name="组合 32844"/>
              <p:cNvGrpSpPr/>
              <p:nvPr/>
            </p:nvGrpSpPr>
            <p:grpSpPr>
              <a:xfrm>
                <a:off x="3427200" y="4370400"/>
                <a:ext cx="1296360" cy="816120"/>
                <a:chOff x="3427200" y="4370400"/>
                <a:chExt cx="1296360" cy="816120"/>
              </a:xfrm>
            </p:grpSpPr>
            <p:grpSp>
              <p:nvGrpSpPr>
                <p:cNvPr id="1983" name="组合 32845"/>
                <p:cNvGrpSpPr/>
                <p:nvPr/>
              </p:nvGrpSpPr>
              <p:grpSpPr>
                <a:xfrm>
                  <a:off x="3427200" y="4371480"/>
                  <a:ext cx="504360" cy="815040"/>
                  <a:chOff x="3427200" y="4371480"/>
                  <a:chExt cx="504360" cy="815040"/>
                </a:xfrm>
              </p:grpSpPr>
              <p:sp>
                <p:nvSpPr>
                  <p:cNvPr id="1984" name="文本框 32846"/>
                  <p:cNvSpPr/>
                  <p:nvPr/>
                </p:nvSpPr>
                <p:spPr>
                  <a:xfrm>
                    <a:off x="3427200" y="472680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10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85" name="文本框 32847"/>
                  <p:cNvSpPr/>
                  <p:nvPr/>
                </p:nvSpPr>
                <p:spPr>
                  <a:xfrm>
                    <a:off x="3520440" y="43714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9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86" name="直接连接符 32848"/>
                  <p:cNvSpPr/>
                  <p:nvPr/>
                </p:nvSpPr>
                <p:spPr>
                  <a:xfrm>
                    <a:off x="3507840" y="479016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987" name="组合 32849"/>
                <p:cNvGrpSpPr/>
                <p:nvPr/>
              </p:nvGrpSpPr>
              <p:grpSpPr>
                <a:xfrm>
                  <a:off x="4219200" y="4370400"/>
                  <a:ext cx="504360" cy="815040"/>
                  <a:chOff x="4219200" y="4370400"/>
                  <a:chExt cx="504360" cy="815040"/>
                </a:xfrm>
              </p:grpSpPr>
              <p:sp>
                <p:nvSpPr>
                  <p:cNvPr id="1988" name="文本框 32850"/>
                  <p:cNvSpPr/>
                  <p:nvPr/>
                </p:nvSpPr>
                <p:spPr>
                  <a:xfrm>
                    <a:off x="4219200" y="472572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4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89" name="文本框 32851"/>
                  <p:cNvSpPr/>
                  <p:nvPr/>
                </p:nvSpPr>
                <p:spPr>
                  <a:xfrm>
                    <a:off x="4312440" y="437040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90" name="直接连接符 32852"/>
                  <p:cNvSpPr/>
                  <p:nvPr/>
                </p:nvSpPr>
                <p:spPr>
                  <a:xfrm>
                    <a:off x="4299840" y="478908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991" name="文本框 32853"/>
                <p:cNvSpPr/>
                <p:nvPr/>
              </p:nvSpPr>
              <p:spPr>
                <a:xfrm>
                  <a:off x="3855600" y="4587480"/>
                  <a:ext cx="358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992" name="组合 32854"/>
              <p:cNvGrpSpPr/>
              <p:nvPr/>
            </p:nvGrpSpPr>
            <p:grpSpPr>
              <a:xfrm>
                <a:off x="1935000" y="4361040"/>
                <a:ext cx="1296360" cy="816840"/>
                <a:chOff x="1935000" y="4361040"/>
                <a:chExt cx="1296360" cy="816840"/>
              </a:xfrm>
            </p:grpSpPr>
            <p:grpSp>
              <p:nvGrpSpPr>
                <p:cNvPr id="1993" name="组合 32855"/>
                <p:cNvGrpSpPr/>
                <p:nvPr/>
              </p:nvGrpSpPr>
              <p:grpSpPr>
                <a:xfrm>
                  <a:off x="1935000" y="4362480"/>
                  <a:ext cx="504360" cy="815400"/>
                  <a:chOff x="1935000" y="4362480"/>
                  <a:chExt cx="504360" cy="815400"/>
                </a:xfrm>
              </p:grpSpPr>
              <p:sp>
                <p:nvSpPr>
                  <p:cNvPr id="1994" name="文本框 32856"/>
                  <p:cNvSpPr/>
                  <p:nvPr/>
                </p:nvSpPr>
                <p:spPr>
                  <a:xfrm>
                    <a:off x="1935000" y="471816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10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95" name="文本框 32857"/>
                  <p:cNvSpPr/>
                  <p:nvPr/>
                </p:nvSpPr>
                <p:spPr>
                  <a:xfrm>
                    <a:off x="2028240" y="43624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9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96" name="直接连接符 32858"/>
                  <p:cNvSpPr/>
                  <p:nvPr/>
                </p:nvSpPr>
                <p:spPr>
                  <a:xfrm>
                    <a:off x="2015640" y="47815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997" name="组合 32859"/>
                <p:cNvGrpSpPr/>
                <p:nvPr/>
              </p:nvGrpSpPr>
              <p:grpSpPr>
                <a:xfrm>
                  <a:off x="2727000" y="4361040"/>
                  <a:ext cx="504360" cy="815400"/>
                  <a:chOff x="2727000" y="4361040"/>
                  <a:chExt cx="504360" cy="815400"/>
                </a:xfrm>
              </p:grpSpPr>
              <p:sp>
                <p:nvSpPr>
                  <p:cNvPr id="1998" name="文本框 32860"/>
                  <p:cNvSpPr/>
                  <p:nvPr/>
                </p:nvSpPr>
                <p:spPr>
                  <a:xfrm>
                    <a:off x="2727000" y="471672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4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99" name="文本框 32861"/>
                  <p:cNvSpPr/>
                  <p:nvPr/>
                </p:nvSpPr>
                <p:spPr>
                  <a:xfrm>
                    <a:off x="2820240" y="436104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2000" name="直接连接符 32862"/>
                  <p:cNvSpPr/>
                  <p:nvPr/>
                </p:nvSpPr>
                <p:spPr>
                  <a:xfrm>
                    <a:off x="2807640" y="478008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2001" name="文本框 32863"/>
                <p:cNvSpPr/>
                <p:nvPr/>
              </p:nvSpPr>
              <p:spPr>
                <a:xfrm>
                  <a:off x="2363400" y="4578480"/>
                  <a:ext cx="358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02" name="文本框 32864"/>
              <p:cNvSpPr/>
              <p:nvPr/>
            </p:nvSpPr>
            <p:spPr>
              <a:xfrm>
                <a:off x="3106440" y="457668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03" name="组合 32865"/>
              <p:cNvGrpSpPr/>
              <p:nvPr/>
            </p:nvGrpSpPr>
            <p:grpSpPr>
              <a:xfrm>
                <a:off x="4930560" y="4375080"/>
                <a:ext cx="504720" cy="815040"/>
                <a:chOff x="4930560" y="4375080"/>
                <a:chExt cx="504720" cy="815040"/>
              </a:xfrm>
            </p:grpSpPr>
            <p:sp>
              <p:nvSpPr>
                <p:cNvPr id="2004" name="文本框 32866"/>
                <p:cNvSpPr/>
                <p:nvPr/>
              </p:nvSpPr>
              <p:spPr>
                <a:xfrm>
                  <a:off x="4930560" y="4730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5" name="文本框 32867"/>
                <p:cNvSpPr/>
                <p:nvPr/>
              </p:nvSpPr>
              <p:spPr>
                <a:xfrm>
                  <a:off x="5024160" y="4375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6" name="直接连接符 32868"/>
                <p:cNvSpPr/>
                <p:nvPr/>
              </p:nvSpPr>
              <p:spPr>
                <a:xfrm>
                  <a:off x="5011560" y="47937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07" name="文本框 32869"/>
              <p:cNvSpPr/>
              <p:nvPr/>
            </p:nvSpPr>
            <p:spPr>
              <a:xfrm>
                <a:off x="4619160" y="4595760"/>
                <a:ext cx="5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08" name="直接连接符 32870"/>
              <p:cNvSpPr/>
              <p:nvPr/>
            </p:nvSpPr>
            <p:spPr>
              <a:xfrm>
                <a:off x="3538080" y="4524480"/>
                <a:ext cx="306360" cy="15192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09" name="直接连接符 32871"/>
              <p:cNvSpPr/>
              <p:nvPr/>
            </p:nvSpPr>
            <p:spPr>
              <a:xfrm>
                <a:off x="4346280" y="4557600"/>
                <a:ext cx="306360" cy="15228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0" name="直接连接符 32872"/>
              <p:cNvSpPr/>
              <p:nvPr/>
            </p:nvSpPr>
            <p:spPr>
              <a:xfrm>
                <a:off x="3481200" y="4875120"/>
                <a:ext cx="306360" cy="15228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1" name="直接连接符 32873"/>
              <p:cNvSpPr/>
              <p:nvPr/>
            </p:nvSpPr>
            <p:spPr>
              <a:xfrm>
                <a:off x="4284360" y="4884840"/>
                <a:ext cx="306360" cy="15192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2" name="文本框 32874"/>
              <p:cNvSpPr/>
              <p:nvPr/>
            </p:nvSpPr>
            <p:spPr>
              <a:xfrm>
                <a:off x="5267160" y="4624200"/>
                <a:ext cx="132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宋体"/>
                  </a:rPr>
                  <a:t>km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13" name="文本框 32875"/>
            <p:cNvSpPr/>
            <p:nvPr/>
          </p:nvSpPr>
          <p:spPr>
            <a:xfrm>
              <a:off x="3506400" y="41893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4" name="文本框 32876"/>
            <p:cNvSpPr/>
            <p:nvPr/>
          </p:nvSpPr>
          <p:spPr>
            <a:xfrm>
              <a:off x="4317840" y="4179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5" name="文本框 32877"/>
            <p:cNvSpPr/>
            <p:nvPr/>
          </p:nvSpPr>
          <p:spPr>
            <a:xfrm>
              <a:off x="3525480" y="5014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6" name="文本框 32878"/>
            <p:cNvSpPr/>
            <p:nvPr/>
          </p:nvSpPr>
          <p:spPr>
            <a:xfrm>
              <a:off x="4298760" y="50180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2"/>
          <p:cNvSpPr/>
          <p:nvPr/>
        </p:nvSpPr>
        <p:spPr>
          <a:xfrm>
            <a:off x="179280" y="5986440"/>
            <a:ext cx="8713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你觉得分数乘法该怎样计算呢？（分数乘分数，用分子相乘的积作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子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,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分母相乘的积作分母。为了计算简便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,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可以先约分再乘。）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8" name="Rectangle 2"/>
          <p:cNvSpPr/>
          <p:nvPr/>
        </p:nvSpPr>
        <p:spPr>
          <a:xfrm>
            <a:off x="-247680" y="1925640"/>
            <a:ext cx="89787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要求乌贼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钟可以游多少千米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,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样列式？（              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9" name="Rectangle 2"/>
          <p:cNvSpPr/>
          <p:nvPr/>
        </p:nvSpPr>
        <p:spPr>
          <a:xfrm>
            <a:off x="512640" y="2770200"/>
            <a:ext cx="7562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独立计算。 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0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1" name="Text Box 10"/>
          <p:cNvSpPr/>
          <p:nvPr/>
        </p:nvSpPr>
        <p:spPr>
          <a:xfrm>
            <a:off x="484200" y="189000"/>
            <a:ext cx="41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2" name="Text Box 14"/>
          <p:cNvSpPr/>
          <p:nvPr/>
        </p:nvSpPr>
        <p:spPr>
          <a:xfrm>
            <a:off x="5121360" y="3421080"/>
            <a:ext cx="4716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这个结果是不是最简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3" name="Text Box 21"/>
          <p:cNvSpPr/>
          <p:nvPr/>
        </p:nvSpPr>
        <p:spPr>
          <a:xfrm>
            <a:off x="5084640" y="4707000"/>
            <a:ext cx="38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方法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和方法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约分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法你更喜欢哪个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5" name="Rectangle 2"/>
          <p:cNvSpPr/>
          <p:nvPr/>
        </p:nvSpPr>
        <p:spPr>
          <a:xfrm>
            <a:off x="611280" y="1844640"/>
            <a:ext cx="75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问题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乌贼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钟可以游多少千米？         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26" name="组合 33802"/>
          <p:cNvGrpSpPr/>
          <p:nvPr/>
        </p:nvGrpSpPr>
        <p:grpSpPr>
          <a:xfrm>
            <a:off x="6051600" y="2139840"/>
            <a:ext cx="1328760" cy="815400"/>
            <a:chOff x="6051600" y="2139840"/>
            <a:chExt cx="1328760" cy="815400"/>
          </a:xfrm>
        </p:grpSpPr>
        <p:grpSp>
          <p:nvGrpSpPr>
            <p:cNvPr id="2027" name="组合 33803"/>
            <p:cNvGrpSpPr/>
            <p:nvPr/>
          </p:nvGrpSpPr>
          <p:grpSpPr>
            <a:xfrm>
              <a:off x="6051600" y="2139840"/>
              <a:ext cx="504720" cy="815400"/>
              <a:chOff x="6051600" y="2139840"/>
              <a:chExt cx="504720" cy="815400"/>
            </a:xfrm>
          </p:grpSpPr>
          <p:sp>
            <p:nvSpPr>
              <p:cNvPr id="2028" name="文本框 33804"/>
              <p:cNvSpPr/>
              <p:nvPr/>
            </p:nvSpPr>
            <p:spPr>
              <a:xfrm>
                <a:off x="6051600" y="249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9" name="文本框 33805"/>
              <p:cNvSpPr/>
              <p:nvPr/>
            </p:nvSpPr>
            <p:spPr>
              <a:xfrm>
                <a:off x="6145200" y="2139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30" name="直接连接符 33806"/>
              <p:cNvSpPr/>
              <p:nvPr/>
            </p:nvSpPr>
            <p:spPr>
              <a:xfrm>
                <a:off x="6132600" y="2558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31" name="Text Box 8"/>
            <p:cNvSpPr/>
            <p:nvPr/>
          </p:nvSpPr>
          <p:spPr>
            <a:xfrm>
              <a:off x="6451560" y="236520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32" name="组合 33808"/>
          <p:cNvGrpSpPr/>
          <p:nvPr/>
        </p:nvGrpSpPr>
        <p:grpSpPr>
          <a:xfrm>
            <a:off x="620640" y="3238560"/>
            <a:ext cx="4138200" cy="815040"/>
            <a:chOff x="620640" y="3238560"/>
            <a:chExt cx="4138200" cy="815040"/>
          </a:xfrm>
        </p:grpSpPr>
        <p:sp>
          <p:nvSpPr>
            <p:cNvPr id="2033" name="Text Box 12"/>
            <p:cNvSpPr/>
            <p:nvPr/>
          </p:nvSpPr>
          <p:spPr>
            <a:xfrm>
              <a:off x="620640" y="344160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34" name="组合 33810"/>
            <p:cNvGrpSpPr/>
            <p:nvPr/>
          </p:nvGrpSpPr>
          <p:grpSpPr>
            <a:xfrm>
              <a:off x="1584000" y="3238560"/>
              <a:ext cx="3174840" cy="815040"/>
              <a:chOff x="1584000" y="3238560"/>
              <a:chExt cx="3174840" cy="815040"/>
            </a:xfrm>
          </p:grpSpPr>
          <p:grpSp>
            <p:nvGrpSpPr>
              <p:cNvPr id="2035" name="组合 33811"/>
              <p:cNvGrpSpPr/>
              <p:nvPr/>
            </p:nvGrpSpPr>
            <p:grpSpPr>
              <a:xfrm>
                <a:off x="1584000" y="3238560"/>
                <a:ext cx="504720" cy="815040"/>
                <a:chOff x="1584000" y="3238560"/>
                <a:chExt cx="504720" cy="815040"/>
              </a:xfrm>
            </p:grpSpPr>
            <p:sp>
              <p:nvSpPr>
                <p:cNvPr id="2036" name="文本框 33812"/>
                <p:cNvSpPr/>
                <p:nvPr/>
              </p:nvSpPr>
              <p:spPr>
                <a:xfrm>
                  <a:off x="1584000" y="3593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37" name="文本框 33813"/>
                <p:cNvSpPr/>
                <p:nvPr/>
              </p:nvSpPr>
              <p:spPr>
                <a:xfrm>
                  <a:off x="1677600" y="32385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38" name="直接连接符 33814"/>
                <p:cNvSpPr/>
                <p:nvPr/>
              </p:nvSpPr>
              <p:spPr>
                <a:xfrm>
                  <a:off x="1665000" y="36572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39" name="Text Box 8"/>
              <p:cNvSpPr/>
              <p:nvPr/>
            </p:nvSpPr>
            <p:spPr>
              <a:xfrm>
                <a:off x="1983960" y="3463560"/>
                <a:ext cx="132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×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0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＝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40" name="组合 33816"/>
              <p:cNvGrpSpPr/>
              <p:nvPr/>
            </p:nvGrpSpPr>
            <p:grpSpPr>
              <a:xfrm>
                <a:off x="2915640" y="3238560"/>
                <a:ext cx="1187640" cy="795960"/>
                <a:chOff x="2915640" y="3238560"/>
                <a:chExt cx="1187640" cy="795960"/>
              </a:xfrm>
            </p:grpSpPr>
            <p:sp>
              <p:nvSpPr>
                <p:cNvPr id="2041" name="文本框 33817"/>
                <p:cNvSpPr/>
                <p:nvPr/>
              </p:nvSpPr>
              <p:spPr>
                <a:xfrm>
                  <a:off x="3088800" y="35748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42" name="文本框 33818"/>
                <p:cNvSpPr/>
                <p:nvPr/>
              </p:nvSpPr>
              <p:spPr>
                <a:xfrm>
                  <a:off x="2928600" y="3238560"/>
                  <a:ext cx="1174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9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3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43" name="直接连接符 33819"/>
                <p:cNvSpPr/>
                <p:nvPr/>
              </p:nvSpPr>
              <p:spPr>
                <a:xfrm>
                  <a:off x="2915640" y="3657600"/>
                  <a:ext cx="82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44" name="文本框 33820"/>
              <p:cNvSpPr/>
              <p:nvPr/>
            </p:nvSpPr>
            <p:spPr>
              <a:xfrm>
                <a:off x="3698280" y="3444480"/>
                <a:ext cx="5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45" name="组合 33821"/>
              <p:cNvGrpSpPr/>
              <p:nvPr/>
            </p:nvGrpSpPr>
            <p:grpSpPr>
              <a:xfrm>
                <a:off x="4060440" y="3238560"/>
                <a:ext cx="698400" cy="805680"/>
                <a:chOff x="4060440" y="3238560"/>
                <a:chExt cx="698400" cy="805680"/>
              </a:xfrm>
            </p:grpSpPr>
            <p:sp>
              <p:nvSpPr>
                <p:cNvPr id="2046" name="文本框 33822"/>
                <p:cNvSpPr/>
                <p:nvPr/>
              </p:nvSpPr>
              <p:spPr>
                <a:xfrm>
                  <a:off x="4107960" y="358452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47" name="文本框 33823"/>
                <p:cNvSpPr/>
                <p:nvPr/>
              </p:nvSpPr>
              <p:spPr>
                <a:xfrm>
                  <a:off x="4060440" y="3238560"/>
                  <a:ext cx="698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7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48" name="直接连接符 33824"/>
                <p:cNvSpPr/>
                <p:nvPr/>
              </p:nvSpPr>
              <p:spPr>
                <a:xfrm>
                  <a:off x="4122360" y="3656880"/>
                  <a:ext cx="495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2049" name="组合 33825"/>
          <p:cNvGrpSpPr/>
          <p:nvPr/>
        </p:nvGrpSpPr>
        <p:grpSpPr>
          <a:xfrm>
            <a:off x="617400" y="4062240"/>
            <a:ext cx="4861080" cy="1226160"/>
            <a:chOff x="617400" y="4062240"/>
            <a:chExt cx="4861080" cy="1226160"/>
          </a:xfrm>
        </p:grpSpPr>
        <p:grpSp>
          <p:nvGrpSpPr>
            <p:cNvPr id="2050" name="组合 33826"/>
            <p:cNvGrpSpPr/>
            <p:nvPr/>
          </p:nvGrpSpPr>
          <p:grpSpPr>
            <a:xfrm>
              <a:off x="617400" y="4259160"/>
              <a:ext cx="4861080" cy="815040"/>
              <a:chOff x="617400" y="4259160"/>
              <a:chExt cx="4861080" cy="815040"/>
            </a:xfrm>
          </p:grpSpPr>
          <p:grpSp>
            <p:nvGrpSpPr>
              <p:cNvPr id="2051" name="组合 33827"/>
              <p:cNvGrpSpPr/>
              <p:nvPr/>
            </p:nvGrpSpPr>
            <p:grpSpPr>
              <a:xfrm>
                <a:off x="617400" y="4259160"/>
                <a:ext cx="4138200" cy="815040"/>
                <a:chOff x="617400" y="4259160"/>
                <a:chExt cx="4138200" cy="815040"/>
              </a:xfrm>
            </p:grpSpPr>
            <p:sp>
              <p:nvSpPr>
                <p:cNvPr id="2052" name="Text Box 12"/>
                <p:cNvSpPr/>
                <p:nvPr/>
              </p:nvSpPr>
              <p:spPr>
                <a:xfrm>
                  <a:off x="617400" y="4462200"/>
                  <a:ext cx="122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预设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：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2053" name="组合 33829"/>
                <p:cNvGrpSpPr/>
                <p:nvPr/>
              </p:nvGrpSpPr>
              <p:grpSpPr>
                <a:xfrm>
                  <a:off x="1580760" y="4259160"/>
                  <a:ext cx="3174840" cy="815040"/>
                  <a:chOff x="1580760" y="4259160"/>
                  <a:chExt cx="3174840" cy="815040"/>
                </a:xfrm>
              </p:grpSpPr>
              <p:grpSp>
                <p:nvGrpSpPr>
                  <p:cNvPr id="2054" name="组合 33830"/>
                  <p:cNvGrpSpPr/>
                  <p:nvPr/>
                </p:nvGrpSpPr>
                <p:grpSpPr>
                  <a:xfrm>
                    <a:off x="1580760" y="4259160"/>
                    <a:ext cx="504720" cy="815040"/>
                    <a:chOff x="1580760" y="4259160"/>
                    <a:chExt cx="504720" cy="815040"/>
                  </a:xfrm>
                </p:grpSpPr>
                <p:sp>
                  <p:nvSpPr>
                    <p:cNvPr id="2055" name="文本框 33831"/>
                    <p:cNvSpPr/>
                    <p:nvPr/>
                  </p:nvSpPr>
                  <p:spPr>
                    <a:xfrm>
                      <a:off x="1580760" y="461448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056" name="文本框 33832"/>
                    <p:cNvSpPr/>
                    <p:nvPr/>
                  </p:nvSpPr>
                  <p:spPr>
                    <a:xfrm>
                      <a:off x="1674360" y="425916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9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057" name="直接连接符 33833"/>
                    <p:cNvSpPr/>
                    <p:nvPr/>
                  </p:nvSpPr>
                  <p:spPr>
                    <a:xfrm>
                      <a:off x="1661760" y="467784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2058" name="Text Box 8"/>
                  <p:cNvSpPr/>
                  <p:nvPr/>
                </p:nvSpPr>
                <p:spPr>
                  <a:xfrm>
                    <a:off x="1980720" y="4484160"/>
                    <a:ext cx="1326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×</a:t>
                    </a:r>
                    <a:r>
                      <a: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30</a:t>
                    </a: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＝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2059" name="组合 33835"/>
                  <p:cNvGrpSpPr/>
                  <p:nvPr/>
                </p:nvGrpSpPr>
                <p:grpSpPr>
                  <a:xfrm>
                    <a:off x="2912400" y="4259160"/>
                    <a:ext cx="1187640" cy="795960"/>
                    <a:chOff x="2912400" y="4259160"/>
                    <a:chExt cx="1187640" cy="795960"/>
                  </a:xfrm>
                </p:grpSpPr>
                <p:sp>
                  <p:nvSpPr>
                    <p:cNvPr id="2060" name="文本框 33836"/>
                    <p:cNvSpPr/>
                    <p:nvPr/>
                  </p:nvSpPr>
                  <p:spPr>
                    <a:xfrm>
                      <a:off x="3085560" y="459540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061" name="文本框 33837"/>
                    <p:cNvSpPr/>
                    <p:nvPr/>
                  </p:nvSpPr>
                  <p:spPr>
                    <a:xfrm>
                      <a:off x="2925360" y="4259160"/>
                      <a:ext cx="11746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9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×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3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062" name="直接连接符 33838"/>
                    <p:cNvSpPr/>
                    <p:nvPr/>
                  </p:nvSpPr>
                  <p:spPr>
                    <a:xfrm>
                      <a:off x="2912400" y="4678200"/>
                      <a:ext cx="8272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2063" name="文本框 33839"/>
                  <p:cNvSpPr/>
                  <p:nvPr/>
                </p:nvSpPr>
                <p:spPr>
                  <a:xfrm>
                    <a:off x="3695040" y="4465080"/>
                    <a:ext cx="505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2064" name="组合 33840"/>
                  <p:cNvGrpSpPr/>
                  <p:nvPr/>
                </p:nvGrpSpPr>
                <p:grpSpPr>
                  <a:xfrm>
                    <a:off x="4057200" y="4259160"/>
                    <a:ext cx="698400" cy="805680"/>
                    <a:chOff x="4057200" y="4259160"/>
                    <a:chExt cx="698400" cy="805680"/>
                  </a:xfrm>
                </p:grpSpPr>
                <p:sp>
                  <p:nvSpPr>
                    <p:cNvPr id="2065" name="文本框 33841"/>
                    <p:cNvSpPr/>
                    <p:nvPr/>
                  </p:nvSpPr>
                  <p:spPr>
                    <a:xfrm>
                      <a:off x="4104720" y="4605120"/>
                      <a:ext cx="505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066" name="文本框 33842"/>
                    <p:cNvSpPr/>
                    <p:nvPr/>
                  </p:nvSpPr>
                  <p:spPr>
                    <a:xfrm>
                      <a:off x="4057200" y="4259160"/>
                      <a:ext cx="698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27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2067" name="直接连接符 33843"/>
                    <p:cNvSpPr/>
                    <p:nvPr/>
                  </p:nvSpPr>
                  <p:spPr>
                    <a:xfrm>
                      <a:off x="4119120" y="4677480"/>
                      <a:ext cx="495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68" name="文本框 33844"/>
              <p:cNvSpPr/>
              <p:nvPr/>
            </p:nvSpPr>
            <p:spPr>
              <a:xfrm>
                <a:off x="4613040" y="4475160"/>
                <a:ext cx="86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2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69" name="直接连接符 33845"/>
            <p:cNvSpPr/>
            <p:nvPr/>
          </p:nvSpPr>
          <p:spPr>
            <a:xfrm>
              <a:off x="4074840" y="4422600"/>
              <a:ext cx="576360" cy="14436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0" name="直接连接符 33846"/>
            <p:cNvSpPr/>
            <p:nvPr/>
          </p:nvSpPr>
          <p:spPr>
            <a:xfrm>
              <a:off x="4141800" y="4781520"/>
              <a:ext cx="422280" cy="12708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1" name="文本框 33847"/>
            <p:cNvSpPr/>
            <p:nvPr/>
          </p:nvSpPr>
          <p:spPr>
            <a:xfrm>
              <a:off x="4122720" y="4062240"/>
              <a:ext cx="6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2" name="文本框 33848"/>
            <p:cNvSpPr/>
            <p:nvPr/>
          </p:nvSpPr>
          <p:spPr>
            <a:xfrm>
              <a:off x="4198680" y="488952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73" name="组合 33849"/>
          <p:cNvGrpSpPr/>
          <p:nvPr/>
        </p:nvGrpSpPr>
        <p:grpSpPr>
          <a:xfrm>
            <a:off x="641520" y="5043600"/>
            <a:ext cx="3882960" cy="1027080"/>
            <a:chOff x="641520" y="5043600"/>
            <a:chExt cx="3882960" cy="1027080"/>
          </a:xfrm>
        </p:grpSpPr>
        <p:sp>
          <p:nvSpPr>
            <p:cNvPr id="2074" name="Text Box 12"/>
            <p:cNvSpPr/>
            <p:nvPr/>
          </p:nvSpPr>
          <p:spPr>
            <a:xfrm>
              <a:off x="641520" y="52578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75" name="组合 33851"/>
            <p:cNvGrpSpPr/>
            <p:nvPr/>
          </p:nvGrpSpPr>
          <p:grpSpPr>
            <a:xfrm>
              <a:off x="1605240" y="5054400"/>
              <a:ext cx="504720" cy="815040"/>
              <a:chOff x="1605240" y="5054400"/>
              <a:chExt cx="504720" cy="815040"/>
            </a:xfrm>
          </p:grpSpPr>
          <p:sp>
            <p:nvSpPr>
              <p:cNvPr id="2076" name="文本框 33852"/>
              <p:cNvSpPr/>
              <p:nvPr/>
            </p:nvSpPr>
            <p:spPr>
              <a:xfrm>
                <a:off x="1605240" y="5409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7" name="文本框 33853"/>
              <p:cNvSpPr/>
              <p:nvPr/>
            </p:nvSpPr>
            <p:spPr>
              <a:xfrm>
                <a:off x="1698840" y="5054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8" name="直接连接符 33854"/>
              <p:cNvSpPr/>
              <p:nvPr/>
            </p:nvSpPr>
            <p:spPr>
              <a:xfrm>
                <a:off x="1686240" y="5473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79" name="Text Box 8"/>
            <p:cNvSpPr/>
            <p:nvPr/>
          </p:nvSpPr>
          <p:spPr>
            <a:xfrm>
              <a:off x="2005200" y="52797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0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＝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0" name="文本框 33856"/>
            <p:cNvSpPr/>
            <p:nvPr/>
          </p:nvSpPr>
          <p:spPr>
            <a:xfrm>
              <a:off x="3753000" y="5279760"/>
              <a:ext cx="7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81" name="组合 33857"/>
            <p:cNvGrpSpPr/>
            <p:nvPr/>
          </p:nvGrpSpPr>
          <p:grpSpPr>
            <a:xfrm>
              <a:off x="2833920" y="5043600"/>
              <a:ext cx="504720" cy="815040"/>
              <a:chOff x="2833920" y="5043600"/>
              <a:chExt cx="504720" cy="815040"/>
            </a:xfrm>
          </p:grpSpPr>
          <p:sp>
            <p:nvSpPr>
              <p:cNvPr id="2082" name="文本框 33858"/>
              <p:cNvSpPr/>
              <p:nvPr/>
            </p:nvSpPr>
            <p:spPr>
              <a:xfrm>
                <a:off x="2833920" y="5398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3" name="文本框 33859"/>
              <p:cNvSpPr/>
              <p:nvPr/>
            </p:nvSpPr>
            <p:spPr>
              <a:xfrm>
                <a:off x="2927520" y="5043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4" name="直接连接符 33860"/>
              <p:cNvSpPr/>
              <p:nvPr/>
            </p:nvSpPr>
            <p:spPr>
              <a:xfrm>
                <a:off x="2914920" y="546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85" name="Text Box 8"/>
            <p:cNvSpPr/>
            <p:nvPr/>
          </p:nvSpPr>
          <p:spPr>
            <a:xfrm>
              <a:off x="3191040" y="5268600"/>
              <a:ext cx="11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0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6" name="直接连接符 33862"/>
            <p:cNvSpPr/>
            <p:nvPr/>
          </p:nvSpPr>
          <p:spPr>
            <a:xfrm>
              <a:off x="2907000" y="5619600"/>
              <a:ext cx="360360" cy="7092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7" name="直接连接符 33863"/>
            <p:cNvSpPr/>
            <p:nvPr/>
          </p:nvSpPr>
          <p:spPr>
            <a:xfrm>
              <a:off x="3500640" y="5421240"/>
              <a:ext cx="360360" cy="7092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8" name="文本框 33864"/>
            <p:cNvSpPr/>
            <p:nvPr/>
          </p:nvSpPr>
          <p:spPr>
            <a:xfrm>
              <a:off x="2921040" y="56718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9" name="文本框 33865"/>
            <p:cNvSpPr/>
            <p:nvPr/>
          </p:nvSpPr>
          <p:spPr>
            <a:xfrm>
              <a:off x="3530880" y="50436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090" name="矩形 33866"/>
          <p:cNvSpPr/>
          <p:nvPr/>
        </p:nvSpPr>
        <p:spPr>
          <a:xfrm>
            <a:off x="18720" y="42926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2" name="Text Box 3"/>
          <p:cNvSpPr/>
          <p:nvPr/>
        </p:nvSpPr>
        <p:spPr>
          <a:xfrm>
            <a:off x="484200" y="189000"/>
            <a:ext cx="25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3" name="Text Box 4"/>
          <p:cNvSpPr/>
          <p:nvPr/>
        </p:nvSpPr>
        <p:spPr>
          <a:xfrm>
            <a:off x="252360" y="1413000"/>
            <a:ext cx="5975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巩固练习，提升认识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4" name="Rectangle 2"/>
          <p:cNvSpPr/>
          <p:nvPr/>
        </p:nvSpPr>
        <p:spPr>
          <a:xfrm>
            <a:off x="757080" y="2473200"/>
            <a:ext cx="756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计算下面各题    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95" name="组合 34821"/>
          <p:cNvGrpSpPr/>
          <p:nvPr/>
        </p:nvGrpSpPr>
        <p:grpSpPr>
          <a:xfrm>
            <a:off x="1384200" y="3540240"/>
            <a:ext cx="1263240" cy="833760"/>
            <a:chOff x="1384200" y="3540240"/>
            <a:chExt cx="1263240" cy="833760"/>
          </a:xfrm>
        </p:grpSpPr>
        <p:sp>
          <p:nvSpPr>
            <p:cNvPr id="2096" name="Text Box 8"/>
            <p:cNvSpPr/>
            <p:nvPr/>
          </p:nvSpPr>
          <p:spPr>
            <a:xfrm>
              <a:off x="1728360" y="377172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97" name="组合 34823"/>
            <p:cNvGrpSpPr/>
            <p:nvPr/>
          </p:nvGrpSpPr>
          <p:grpSpPr>
            <a:xfrm>
              <a:off x="2114280" y="3540240"/>
              <a:ext cx="533160" cy="815040"/>
              <a:chOff x="2114280" y="3540240"/>
              <a:chExt cx="533160" cy="815040"/>
            </a:xfrm>
          </p:grpSpPr>
          <p:sp>
            <p:nvSpPr>
              <p:cNvPr id="2098" name="文本框 34824"/>
              <p:cNvSpPr/>
              <p:nvPr/>
            </p:nvSpPr>
            <p:spPr>
              <a:xfrm>
                <a:off x="2142720" y="3895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9" name="文本框 34825"/>
              <p:cNvSpPr/>
              <p:nvPr/>
            </p:nvSpPr>
            <p:spPr>
              <a:xfrm>
                <a:off x="2126880" y="3540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0" name="直接连接符 34826"/>
              <p:cNvSpPr/>
              <p:nvPr/>
            </p:nvSpPr>
            <p:spPr>
              <a:xfrm>
                <a:off x="2114280" y="39589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101" name="组合 34827"/>
            <p:cNvGrpSpPr/>
            <p:nvPr/>
          </p:nvGrpSpPr>
          <p:grpSpPr>
            <a:xfrm>
              <a:off x="1384200" y="3558960"/>
              <a:ext cx="523800" cy="815040"/>
              <a:chOff x="1384200" y="3558960"/>
              <a:chExt cx="523800" cy="815040"/>
            </a:xfrm>
          </p:grpSpPr>
          <p:sp>
            <p:nvSpPr>
              <p:cNvPr id="2102" name="文本框 34828"/>
              <p:cNvSpPr/>
              <p:nvPr/>
            </p:nvSpPr>
            <p:spPr>
              <a:xfrm>
                <a:off x="1403280" y="39142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3" name="文本框 34829"/>
              <p:cNvSpPr/>
              <p:nvPr/>
            </p:nvSpPr>
            <p:spPr>
              <a:xfrm>
                <a:off x="1406520" y="35589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4" name="直接连接符 34830"/>
              <p:cNvSpPr/>
              <p:nvPr/>
            </p:nvSpPr>
            <p:spPr>
              <a:xfrm>
                <a:off x="1384200" y="39776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105" name="组合 34831"/>
          <p:cNvGrpSpPr/>
          <p:nvPr/>
        </p:nvGrpSpPr>
        <p:grpSpPr>
          <a:xfrm>
            <a:off x="3708360" y="3540240"/>
            <a:ext cx="1177920" cy="834120"/>
            <a:chOff x="3708360" y="3540240"/>
            <a:chExt cx="1177920" cy="834120"/>
          </a:xfrm>
        </p:grpSpPr>
        <p:sp>
          <p:nvSpPr>
            <p:cNvPr id="2106" name="Text Box 8"/>
            <p:cNvSpPr/>
            <p:nvPr/>
          </p:nvSpPr>
          <p:spPr>
            <a:xfrm>
              <a:off x="4052880" y="377172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107" name="组合 34833"/>
            <p:cNvGrpSpPr/>
            <p:nvPr/>
          </p:nvGrpSpPr>
          <p:grpSpPr>
            <a:xfrm>
              <a:off x="3708360" y="3540240"/>
              <a:ext cx="1177920" cy="834120"/>
              <a:chOff x="3708360" y="3540240"/>
              <a:chExt cx="1177920" cy="834120"/>
            </a:xfrm>
          </p:grpSpPr>
          <p:sp>
            <p:nvSpPr>
              <p:cNvPr id="2108" name="文本框 34834"/>
              <p:cNvSpPr/>
              <p:nvPr/>
            </p:nvSpPr>
            <p:spPr>
              <a:xfrm>
                <a:off x="4381560" y="3895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9" name="文本框 34835"/>
              <p:cNvSpPr/>
              <p:nvPr/>
            </p:nvSpPr>
            <p:spPr>
              <a:xfrm>
                <a:off x="4451400" y="3540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10" name="直接连接符 34836"/>
              <p:cNvSpPr/>
              <p:nvPr/>
            </p:nvSpPr>
            <p:spPr>
              <a:xfrm>
                <a:off x="4438800" y="3959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111" name="组合 34837"/>
              <p:cNvGrpSpPr/>
              <p:nvPr/>
            </p:nvGrpSpPr>
            <p:grpSpPr>
              <a:xfrm>
                <a:off x="3708360" y="3558960"/>
                <a:ext cx="523800" cy="815400"/>
                <a:chOff x="3708360" y="3558960"/>
                <a:chExt cx="523800" cy="815400"/>
              </a:xfrm>
            </p:grpSpPr>
            <p:sp>
              <p:nvSpPr>
                <p:cNvPr id="2112" name="文本框 34838"/>
                <p:cNvSpPr/>
                <p:nvPr/>
              </p:nvSpPr>
              <p:spPr>
                <a:xfrm>
                  <a:off x="3727440" y="39146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3" name="文本框 34839"/>
                <p:cNvSpPr/>
                <p:nvPr/>
              </p:nvSpPr>
              <p:spPr>
                <a:xfrm>
                  <a:off x="3730680" y="35589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4" name="直接连接符 34840"/>
                <p:cNvSpPr/>
                <p:nvPr/>
              </p:nvSpPr>
              <p:spPr>
                <a:xfrm>
                  <a:off x="3708360" y="39780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2115" name="组合 34841"/>
          <p:cNvGrpSpPr/>
          <p:nvPr/>
        </p:nvGrpSpPr>
        <p:grpSpPr>
          <a:xfrm>
            <a:off x="6012000" y="3544920"/>
            <a:ext cx="1090440" cy="815400"/>
            <a:chOff x="6012000" y="3544920"/>
            <a:chExt cx="1090440" cy="815400"/>
          </a:xfrm>
        </p:grpSpPr>
        <p:sp>
          <p:nvSpPr>
            <p:cNvPr id="2116" name="Text Box 8"/>
            <p:cNvSpPr/>
            <p:nvPr/>
          </p:nvSpPr>
          <p:spPr>
            <a:xfrm>
              <a:off x="6012000" y="37767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6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7" name="文本框 34843"/>
            <p:cNvSpPr/>
            <p:nvPr/>
          </p:nvSpPr>
          <p:spPr>
            <a:xfrm>
              <a:off x="6597720" y="3900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8" name="文本框 34844"/>
            <p:cNvSpPr/>
            <p:nvPr/>
          </p:nvSpPr>
          <p:spPr>
            <a:xfrm>
              <a:off x="6677280" y="3544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9" name="直接连接符 34845"/>
            <p:cNvSpPr/>
            <p:nvPr/>
          </p:nvSpPr>
          <p:spPr>
            <a:xfrm>
              <a:off x="6664320" y="39639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20" name="组合 34846"/>
          <p:cNvGrpSpPr/>
          <p:nvPr/>
        </p:nvGrpSpPr>
        <p:grpSpPr>
          <a:xfrm>
            <a:off x="2508120" y="3544920"/>
            <a:ext cx="1093680" cy="805680"/>
            <a:chOff x="2508120" y="3544920"/>
            <a:chExt cx="1093680" cy="805680"/>
          </a:xfrm>
        </p:grpSpPr>
        <p:sp>
          <p:nvSpPr>
            <p:cNvPr id="2121" name="文本框 34847"/>
            <p:cNvSpPr/>
            <p:nvPr/>
          </p:nvSpPr>
          <p:spPr>
            <a:xfrm>
              <a:off x="2508120" y="37512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2" name="文本框 34848"/>
            <p:cNvSpPr/>
            <p:nvPr/>
          </p:nvSpPr>
          <p:spPr>
            <a:xfrm>
              <a:off x="2928600" y="38908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3" name="文本框 34849"/>
            <p:cNvSpPr/>
            <p:nvPr/>
          </p:nvSpPr>
          <p:spPr>
            <a:xfrm>
              <a:off x="2922480" y="354492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4" name="直接连接符 34850"/>
            <p:cNvSpPr/>
            <p:nvPr/>
          </p:nvSpPr>
          <p:spPr>
            <a:xfrm>
              <a:off x="2941560" y="39672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25" name="组合 34851"/>
          <p:cNvGrpSpPr/>
          <p:nvPr/>
        </p:nvGrpSpPr>
        <p:grpSpPr>
          <a:xfrm>
            <a:off x="4745160" y="3544920"/>
            <a:ext cx="906480" cy="815400"/>
            <a:chOff x="4745160" y="3544920"/>
            <a:chExt cx="906480" cy="815400"/>
          </a:xfrm>
        </p:grpSpPr>
        <p:sp>
          <p:nvSpPr>
            <p:cNvPr id="2126" name="文本框 34852"/>
            <p:cNvSpPr/>
            <p:nvPr/>
          </p:nvSpPr>
          <p:spPr>
            <a:xfrm>
              <a:off x="5146920" y="3900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7" name="文本框 34853"/>
            <p:cNvSpPr/>
            <p:nvPr/>
          </p:nvSpPr>
          <p:spPr>
            <a:xfrm>
              <a:off x="5218200" y="3544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8" name="直接连接符 34854"/>
            <p:cNvSpPr/>
            <p:nvPr/>
          </p:nvSpPr>
          <p:spPr>
            <a:xfrm>
              <a:off x="5196240" y="396396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9" name="文本框 34855"/>
            <p:cNvSpPr/>
            <p:nvPr/>
          </p:nvSpPr>
          <p:spPr>
            <a:xfrm>
              <a:off x="4745160" y="3760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30" name="组合 34856"/>
          <p:cNvGrpSpPr/>
          <p:nvPr/>
        </p:nvGrpSpPr>
        <p:grpSpPr>
          <a:xfrm>
            <a:off x="6996240" y="3544920"/>
            <a:ext cx="1093680" cy="805680"/>
            <a:chOff x="6996240" y="3544920"/>
            <a:chExt cx="1093680" cy="805680"/>
          </a:xfrm>
        </p:grpSpPr>
        <p:sp>
          <p:nvSpPr>
            <p:cNvPr id="2131" name="文本框 34857"/>
            <p:cNvSpPr/>
            <p:nvPr/>
          </p:nvSpPr>
          <p:spPr>
            <a:xfrm>
              <a:off x="6996240" y="37512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2" name="文本框 34858"/>
            <p:cNvSpPr/>
            <p:nvPr/>
          </p:nvSpPr>
          <p:spPr>
            <a:xfrm>
              <a:off x="7416720" y="38908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3" name="文本框 34859"/>
            <p:cNvSpPr/>
            <p:nvPr/>
          </p:nvSpPr>
          <p:spPr>
            <a:xfrm>
              <a:off x="7410600" y="354492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4" name="直接连接符 34860"/>
            <p:cNvSpPr/>
            <p:nvPr/>
          </p:nvSpPr>
          <p:spPr>
            <a:xfrm>
              <a:off x="7429680" y="39672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2"/>
          <p:cNvSpPr/>
          <p:nvPr/>
        </p:nvSpPr>
        <p:spPr>
          <a:xfrm>
            <a:off x="45720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二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6" name="Rectangle 2"/>
          <p:cNvSpPr/>
          <p:nvPr/>
        </p:nvSpPr>
        <p:spPr>
          <a:xfrm>
            <a:off x="1384200" y="1576440"/>
            <a:ext cx="32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计算下面各题。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7" name="Rectangle 2"/>
          <p:cNvSpPr/>
          <p:nvPr/>
        </p:nvSpPr>
        <p:spPr>
          <a:xfrm>
            <a:off x="1581120" y="494172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说说你是怎样想的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38" name="组合 35844"/>
          <p:cNvGrpSpPr/>
          <p:nvPr/>
        </p:nvGrpSpPr>
        <p:grpSpPr>
          <a:xfrm>
            <a:off x="1504800" y="2502000"/>
            <a:ext cx="1263240" cy="833760"/>
            <a:chOff x="1504800" y="2502000"/>
            <a:chExt cx="1263240" cy="833760"/>
          </a:xfrm>
        </p:grpSpPr>
        <p:sp>
          <p:nvSpPr>
            <p:cNvPr id="2139" name="Text Box 8"/>
            <p:cNvSpPr/>
            <p:nvPr/>
          </p:nvSpPr>
          <p:spPr>
            <a:xfrm>
              <a:off x="1848960" y="273348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140" name="组合 35846"/>
            <p:cNvGrpSpPr/>
            <p:nvPr/>
          </p:nvGrpSpPr>
          <p:grpSpPr>
            <a:xfrm>
              <a:off x="2234880" y="2502000"/>
              <a:ext cx="533160" cy="815040"/>
              <a:chOff x="2234880" y="2502000"/>
              <a:chExt cx="533160" cy="815040"/>
            </a:xfrm>
          </p:grpSpPr>
          <p:sp>
            <p:nvSpPr>
              <p:cNvPr id="2141" name="文本框 35847"/>
              <p:cNvSpPr/>
              <p:nvPr/>
            </p:nvSpPr>
            <p:spPr>
              <a:xfrm>
                <a:off x="2263320" y="2857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42" name="文本框 35848"/>
              <p:cNvSpPr/>
              <p:nvPr/>
            </p:nvSpPr>
            <p:spPr>
              <a:xfrm>
                <a:off x="2247480" y="2502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43" name="直接连接符 35849"/>
              <p:cNvSpPr/>
              <p:nvPr/>
            </p:nvSpPr>
            <p:spPr>
              <a:xfrm>
                <a:off x="2234880" y="2920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144" name="组合 35850"/>
            <p:cNvGrpSpPr/>
            <p:nvPr/>
          </p:nvGrpSpPr>
          <p:grpSpPr>
            <a:xfrm>
              <a:off x="1504800" y="2520720"/>
              <a:ext cx="523800" cy="815040"/>
              <a:chOff x="1504800" y="2520720"/>
              <a:chExt cx="523800" cy="815040"/>
            </a:xfrm>
          </p:grpSpPr>
          <p:sp>
            <p:nvSpPr>
              <p:cNvPr id="2145" name="文本框 35851"/>
              <p:cNvSpPr/>
              <p:nvPr/>
            </p:nvSpPr>
            <p:spPr>
              <a:xfrm>
                <a:off x="1523880" y="2876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46" name="文本框 35852"/>
              <p:cNvSpPr/>
              <p:nvPr/>
            </p:nvSpPr>
            <p:spPr>
              <a:xfrm>
                <a:off x="1527120" y="2520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47" name="直接连接符 35853"/>
              <p:cNvSpPr/>
              <p:nvPr/>
            </p:nvSpPr>
            <p:spPr>
              <a:xfrm>
                <a:off x="1504800" y="2939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148" name="组合 35854"/>
          <p:cNvGrpSpPr/>
          <p:nvPr/>
        </p:nvGrpSpPr>
        <p:grpSpPr>
          <a:xfrm>
            <a:off x="3859200" y="2482920"/>
            <a:ext cx="1263240" cy="834480"/>
            <a:chOff x="3859200" y="2482920"/>
            <a:chExt cx="1263240" cy="834480"/>
          </a:xfrm>
        </p:grpSpPr>
        <p:sp>
          <p:nvSpPr>
            <p:cNvPr id="2149" name="Text Box 8"/>
            <p:cNvSpPr/>
            <p:nvPr/>
          </p:nvSpPr>
          <p:spPr>
            <a:xfrm>
              <a:off x="4203360" y="271476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150" name="组合 35856"/>
            <p:cNvGrpSpPr/>
            <p:nvPr/>
          </p:nvGrpSpPr>
          <p:grpSpPr>
            <a:xfrm>
              <a:off x="4589280" y="2482920"/>
              <a:ext cx="533160" cy="815400"/>
              <a:chOff x="4589280" y="2482920"/>
              <a:chExt cx="533160" cy="815400"/>
            </a:xfrm>
          </p:grpSpPr>
          <p:sp>
            <p:nvSpPr>
              <p:cNvPr id="2151" name="文本框 35857"/>
              <p:cNvSpPr/>
              <p:nvPr/>
            </p:nvSpPr>
            <p:spPr>
              <a:xfrm>
                <a:off x="4617720" y="2838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52" name="文本框 35858"/>
              <p:cNvSpPr/>
              <p:nvPr/>
            </p:nvSpPr>
            <p:spPr>
              <a:xfrm>
                <a:off x="4601880" y="2482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53" name="直接连接符 35859"/>
              <p:cNvSpPr/>
              <p:nvPr/>
            </p:nvSpPr>
            <p:spPr>
              <a:xfrm>
                <a:off x="4589280" y="2901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154" name="组合 35860"/>
            <p:cNvGrpSpPr/>
            <p:nvPr/>
          </p:nvGrpSpPr>
          <p:grpSpPr>
            <a:xfrm>
              <a:off x="3859200" y="2502000"/>
              <a:ext cx="523800" cy="815400"/>
              <a:chOff x="3859200" y="2502000"/>
              <a:chExt cx="523800" cy="815400"/>
            </a:xfrm>
          </p:grpSpPr>
          <p:sp>
            <p:nvSpPr>
              <p:cNvPr id="2155" name="文本框 35861"/>
              <p:cNvSpPr/>
              <p:nvPr/>
            </p:nvSpPr>
            <p:spPr>
              <a:xfrm>
                <a:off x="3878280" y="2857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56" name="文本框 35862"/>
              <p:cNvSpPr/>
              <p:nvPr/>
            </p:nvSpPr>
            <p:spPr>
              <a:xfrm>
                <a:off x="3881520" y="2502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57" name="直接连接符 35863"/>
              <p:cNvSpPr/>
              <p:nvPr/>
            </p:nvSpPr>
            <p:spPr>
              <a:xfrm>
                <a:off x="3859200" y="2921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158" name="组合 35864"/>
          <p:cNvGrpSpPr/>
          <p:nvPr/>
        </p:nvGrpSpPr>
        <p:grpSpPr>
          <a:xfrm>
            <a:off x="6078600" y="2459160"/>
            <a:ext cx="1263240" cy="833760"/>
            <a:chOff x="6078600" y="2459160"/>
            <a:chExt cx="1263240" cy="833760"/>
          </a:xfrm>
        </p:grpSpPr>
        <p:sp>
          <p:nvSpPr>
            <p:cNvPr id="2159" name="Text Box 8"/>
            <p:cNvSpPr/>
            <p:nvPr/>
          </p:nvSpPr>
          <p:spPr>
            <a:xfrm>
              <a:off x="6422760" y="269064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160" name="组合 35866"/>
            <p:cNvGrpSpPr/>
            <p:nvPr/>
          </p:nvGrpSpPr>
          <p:grpSpPr>
            <a:xfrm>
              <a:off x="6808680" y="2459160"/>
              <a:ext cx="533160" cy="815040"/>
              <a:chOff x="6808680" y="2459160"/>
              <a:chExt cx="533160" cy="815040"/>
            </a:xfrm>
          </p:grpSpPr>
          <p:sp>
            <p:nvSpPr>
              <p:cNvPr id="2161" name="文本框 35867"/>
              <p:cNvSpPr/>
              <p:nvPr/>
            </p:nvSpPr>
            <p:spPr>
              <a:xfrm>
                <a:off x="6837120" y="2814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62" name="文本框 35868"/>
              <p:cNvSpPr/>
              <p:nvPr/>
            </p:nvSpPr>
            <p:spPr>
              <a:xfrm>
                <a:off x="6821280" y="2459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63" name="直接连接符 35869"/>
              <p:cNvSpPr/>
              <p:nvPr/>
            </p:nvSpPr>
            <p:spPr>
              <a:xfrm>
                <a:off x="6808680" y="2877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164" name="组合 35870"/>
            <p:cNvGrpSpPr/>
            <p:nvPr/>
          </p:nvGrpSpPr>
          <p:grpSpPr>
            <a:xfrm>
              <a:off x="6078600" y="2477880"/>
              <a:ext cx="523800" cy="815040"/>
              <a:chOff x="6078600" y="2477880"/>
              <a:chExt cx="523800" cy="815040"/>
            </a:xfrm>
          </p:grpSpPr>
          <p:sp>
            <p:nvSpPr>
              <p:cNvPr id="2165" name="文本框 35871"/>
              <p:cNvSpPr/>
              <p:nvPr/>
            </p:nvSpPr>
            <p:spPr>
              <a:xfrm>
                <a:off x="6097680" y="2833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66" name="文本框 35872"/>
              <p:cNvSpPr/>
              <p:nvPr/>
            </p:nvSpPr>
            <p:spPr>
              <a:xfrm>
                <a:off x="6100920" y="2477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67" name="直接连接符 35873"/>
              <p:cNvSpPr/>
              <p:nvPr/>
            </p:nvSpPr>
            <p:spPr>
              <a:xfrm>
                <a:off x="6078600" y="28965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168" name="组合 35874"/>
          <p:cNvGrpSpPr/>
          <p:nvPr/>
        </p:nvGrpSpPr>
        <p:grpSpPr>
          <a:xfrm>
            <a:off x="1438200" y="3722760"/>
            <a:ext cx="1216080" cy="824760"/>
            <a:chOff x="1438200" y="3722760"/>
            <a:chExt cx="1216080" cy="824760"/>
          </a:xfrm>
        </p:grpSpPr>
        <p:sp>
          <p:nvSpPr>
            <p:cNvPr id="2169" name="Text Box 8"/>
            <p:cNvSpPr/>
            <p:nvPr/>
          </p:nvSpPr>
          <p:spPr>
            <a:xfrm>
              <a:off x="1830240" y="394488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0" name="文本框 35876"/>
            <p:cNvSpPr/>
            <p:nvPr/>
          </p:nvSpPr>
          <p:spPr>
            <a:xfrm>
              <a:off x="2149560" y="4078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1" name="文本框 35877"/>
            <p:cNvSpPr/>
            <p:nvPr/>
          </p:nvSpPr>
          <p:spPr>
            <a:xfrm>
              <a:off x="2228760" y="3722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2" name="直接连接符 35878"/>
            <p:cNvSpPr/>
            <p:nvPr/>
          </p:nvSpPr>
          <p:spPr>
            <a:xfrm>
              <a:off x="2216160" y="4141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3" name="文本框 35879"/>
            <p:cNvSpPr/>
            <p:nvPr/>
          </p:nvSpPr>
          <p:spPr>
            <a:xfrm>
              <a:off x="1438200" y="4087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4" name="文本框 35880"/>
            <p:cNvSpPr/>
            <p:nvPr/>
          </p:nvSpPr>
          <p:spPr>
            <a:xfrm>
              <a:off x="1508040" y="37321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5" name="直接连接符 35881"/>
            <p:cNvSpPr/>
            <p:nvPr/>
          </p:nvSpPr>
          <p:spPr>
            <a:xfrm>
              <a:off x="1485720" y="4151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76" name="组合 35882"/>
          <p:cNvGrpSpPr/>
          <p:nvPr/>
        </p:nvGrpSpPr>
        <p:grpSpPr>
          <a:xfrm>
            <a:off x="3886200" y="3749760"/>
            <a:ext cx="1263240" cy="833760"/>
            <a:chOff x="3886200" y="3749760"/>
            <a:chExt cx="1263240" cy="833760"/>
          </a:xfrm>
        </p:grpSpPr>
        <p:sp>
          <p:nvSpPr>
            <p:cNvPr id="2177" name="Text Box 8"/>
            <p:cNvSpPr/>
            <p:nvPr/>
          </p:nvSpPr>
          <p:spPr>
            <a:xfrm>
              <a:off x="4230360" y="398124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178" name="组合 35884"/>
            <p:cNvGrpSpPr/>
            <p:nvPr/>
          </p:nvGrpSpPr>
          <p:grpSpPr>
            <a:xfrm>
              <a:off x="4616280" y="3749760"/>
              <a:ext cx="533160" cy="815040"/>
              <a:chOff x="4616280" y="3749760"/>
              <a:chExt cx="533160" cy="815040"/>
            </a:xfrm>
          </p:grpSpPr>
          <p:sp>
            <p:nvSpPr>
              <p:cNvPr id="2179" name="文本框 35885"/>
              <p:cNvSpPr/>
              <p:nvPr/>
            </p:nvSpPr>
            <p:spPr>
              <a:xfrm>
                <a:off x="4644720" y="4105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80" name="文本框 35886"/>
              <p:cNvSpPr/>
              <p:nvPr/>
            </p:nvSpPr>
            <p:spPr>
              <a:xfrm>
                <a:off x="4628880" y="3749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81" name="直接连接符 35887"/>
              <p:cNvSpPr/>
              <p:nvPr/>
            </p:nvSpPr>
            <p:spPr>
              <a:xfrm>
                <a:off x="4616280" y="4168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182" name="组合 35888"/>
            <p:cNvGrpSpPr/>
            <p:nvPr/>
          </p:nvGrpSpPr>
          <p:grpSpPr>
            <a:xfrm>
              <a:off x="3886200" y="3768480"/>
              <a:ext cx="523800" cy="815040"/>
              <a:chOff x="3886200" y="3768480"/>
              <a:chExt cx="523800" cy="815040"/>
            </a:xfrm>
          </p:grpSpPr>
          <p:sp>
            <p:nvSpPr>
              <p:cNvPr id="2183" name="文本框 35889"/>
              <p:cNvSpPr/>
              <p:nvPr/>
            </p:nvSpPr>
            <p:spPr>
              <a:xfrm>
                <a:off x="3905280" y="4123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84" name="文本框 35890"/>
              <p:cNvSpPr/>
              <p:nvPr/>
            </p:nvSpPr>
            <p:spPr>
              <a:xfrm>
                <a:off x="3908520" y="3768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85" name="直接连接符 35891"/>
              <p:cNvSpPr/>
              <p:nvPr/>
            </p:nvSpPr>
            <p:spPr>
              <a:xfrm>
                <a:off x="3886200" y="4187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186" name="组合 35892"/>
          <p:cNvGrpSpPr/>
          <p:nvPr/>
        </p:nvGrpSpPr>
        <p:grpSpPr>
          <a:xfrm>
            <a:off x="6097680" y="3740040"/>
            <a:ext cx="1301400" cy="824760"/>
            <a:chOff x="6097680" y="3740040"/>
            <a:chExt cx="1301400" cy="824760"/>
          </a:xfrm>
        </p:grpSpPr>
        <p:sp>
          <p:nvSpPr>
            <p:cNvPr id="2187" name="Text Box 8"/>
            <p:cNvSpPr/>
            <p:nvPr/>
          </p:nvSpPr>
          <p:spPr>
            <a:xfrm>
              <a:off x="6480360" y="397188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188" name="组合 35894"/>
            <p:cNvGrpSpPr/>
            <p:nvPr/>
          </p:nvGrpSpPr>
          <p:grpSpPr>
            <a:xfrm>
              <a:off x="6865920" y="3740040"/>
              <a:ext cx="533160" cy="815400"/>
              <a:chOff x="6865920" y="3740040"/>
              <a:chExt cx="533160" cy="815400"/>
            </a:xfrm>
          </p:grpSpPr>
          <p:sp>
            <p:nvSpPr>
              <p:cNvPr id="2189" name="文本框 35895"/>
              <p:cNvSpPr/>
              <p:nvPr/>
            </p:nvSpPr>
            <p:spPr>
              <a:xfrm>
                <a:off x="6894360" y="4095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90" name="文本框 35896"/>
              <p:cNvSpPr/>
              <p:nvPr/>
            </p:nvSpPr>
            <p:spPr>
              <a:xfrm>
                <a:off x="6878520" y="3740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91" name="直接连接符 35897"/>
              <p:cNvSpPr/>
              <p:nvPr/>
            </p:nvSpPr>
            <p:spPr>
              <a:xfrm>
                <a:off x="6865920" y="4159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192" name="文本框 35898"/>
            <p:cNvSpPr/>
            <p:nvPr/>
          </p:nvSpPr>
          <p:spPr>
            <a:xfrm>
              <a:off x="6097680" y="4105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3" name="文本框 35899"/>
            <p:cNvSpPr/>
            <p:nvPr/>
          </p:nvSpPr>
          <p:spPr>
            <a:xfrm>
              <a:off x="6157800" y="3749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4" name="直接连接符 35900"/>
            <p:cNvSpPr/>
            <p:nvPr/>
          </p:nvSpPr>
          <p:spPr>
            <a:xfrm>
              <a:off x="6135840" y="41781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95" name="文本框 35901"/>
          <p:cNvSpPr/>
          <p:nvPr/>
        </p:nvSpPr>
        <p:spPr>
          <a:xfrm>
            <a:off x="4903920" y="39704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96" name="组合 35902"/>
          <p:cNvGrpSpPr/>
          <p:nvPr/>
        </p:nvGrpSpPr>
        <p:grpSpPr>
          <a:xfrm>
            <a:off x="2527200" y="2502000"/>
            <a:ext cx="906480" cy="815400"/>
            <a:chOff x="2527200" y="2502000"/>
            <a:chExt cx="906480" cy="815400"/>
          </a:xfrm>
        </p:grpSpPr>
        <p:sp>
          <p:nvSpPr>
            <p:cNvPr id="2197" name="文本框 35903"/>
            <p:cNvSpPr/>
            <p:nvPr/>
          </p:nvSpPr>
          <p:spPr>
            <a:xfrm>
              <a:off x="2928960" y="2857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8" name="文本框 35904"/>
            <p:cNvSpPr/>
            <p:nvPr/>
          </p:nvSpPr>
          <p:spPr>
            <a:xfrm>
              <a:off x="3000240" y="2502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9" name="直接连接符 35905"/>
            <p:cNvSpPr/>
            <p:nvPr/>
          </p:nvSpPr>
          <p:spPr>
            <a:xfrm>
              <a:off x="2978280" y="292104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0" name="文本框 35906"/>
            <p:cNvSpPr/>
            <p:nvPr/>
          </p:nvSpPr>
          <p:spPr>
            <a:xfrm>
              <a:off x="2527200" y="2718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01" name="组合 35907"/>
          <p:cNvGrpSpPr/>
          <p:nvPr/>
        </p:nvGrpSpPr>
        <p:grpSpPr>
          <a:xfrm>
            <a:off x="2513160" y="3727440"/>
            <a:ext cx="906480" cy="815400"/>
            <a:chOff x="2513160" y="3727440"/>
            <a:chExt cx="906480" cy="815400"/>
          </a:xfrm>
        </p:grpSpPr>
        <p:sp>
          <p:nvSpPr>
            <p:cNvPr id="2202" name="文本框 35908"/>
            <p:cNvSpPr/>
            <p:nvPr/>
          </p:nvSpPr>
          <p:spPr>
            <a:xfrm>
              <a:off x="2914920" y="40831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3" name="文本框 35909"/>
            <p:cNvSpPr/>
            <p:nvPr/>
          </p:nvSpPr>
          <p:spPr>
            <a:xfrm>
              <a:off x="2986200" y="3727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4" name="直接连接符 35910"/>
            <p:cNvSpPr/>
            <p:nvPr/>
          </p:nvSpPr>
          <p:spPr>
            <a:xfrm>
              <a:off x="2964240" y="414648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5" name="文本框 35911"/>
            <p:cNvSpPr/>
            <p:nvPr/>
          </p:nvSpPr>
          <p:spPr>
            <a:xfrm>
              <a:off x="2513160" y="3943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06" name="组合 35912"/>
          <p:cNvGrpSpPr/>
          <p:nvPr/>
        </p:nvGrpSpPr>
        <p:grpSpPr>
          <a:xfrm>
            <a:off x="4883040" y="2489040"/>
            <a:ext cx="1093680" cy="805680"/>
            <a:chOff x="4883040" y="2489040"/>
            <a:chExt cx="1093680" cy="805680"/>
          </a:xfrm>
        </p:grpSpPr>
        <p:sp>
          <p:nvSpPr>
            <p:cNvPr id="2207" name="文本框 35913"/>
            <p:cNvSpPr/>
            <p:nvPr/>
          </p:nvSpPr>
          <p:spPr>
            <a:xfrm>
              <a:off x="4883040" y="26953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8" name="文本框 35914"/>
            <p:cNvSpPr/>
            <p:nvPr/>
          </p:nvSpPr>
          <p:spPr>
            <a:xfrm>
              <a:off x="5303520" y="28350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9" name="文本框 35915"/>
            <p:cNvSpPr/>
            <p:nvPr/>
          </p:nvSpPr>
          <p:spPr>
            <a:xfrm>
              <a:off x="5297400" y="24890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0" name="直接连接符 35916"/>
            <p:cNvSpPr/>
            <p:nvPr/>
          </p:nvSpPr>
          <p:spPr>
            <a:xfrm>
              <a:off x="5316480" y="29113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11" name="组合 35917"/>
          <p:cNvGrpSpPr/>
          <p:nvPr/>
        </p:nvGrpSpPr>
        <p:grpSpPr>
          <a:xfrm>
            <a:off x="7093080" y="2421000"/>
            <a:ext cx="1093680" cy="805680"/>
            <a:chOff x="7093080" y="2421000"/>
            <a:chExt cx="1093680" cy="805680"/>
          </a:xfrm>
        </p:grpSpPr>
        <p:sp>
          <p:nvSpPr>
            <p:cNvPr id="2212" name="文本框 35918"/>
            <p:cNvSpPr/>
            <p:nvPr/>
          </p:nvSpPr>
          <p:spPr>
            <a:xfrm>
              <a:off x="7093080" y="2627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3" name="文本框 35919"/>
            <p:cNvSpPr/>
            <p:nvPr/>
          </p:nvSpPr>
          <p:spPr>
            <a:xfrm>
              <a:off x="7513560" y="27669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4" name="文本框 35920"/>
            <p:cNvSpPr/>
            <p:nvPr/>
          </p:nvSpPr>
          <p:spPr>
            <a:xfrm>
              <a:off x="7507440" y="242100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5" name="直接连接符 35921"/>
            <p:cNvSpPr/>
            <p:nvPr/>
          </p:nvSpPr>
          <p:spPr>
            <a:xfrm>
              <a:off x="7526520" y="284328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16" name="组合 35922"/>
          <p:cNvGrpSpPr/>
          <p:nvPr/>
        </p:nvGrpSpPr>
        <p:grpSpPr>
          <a:xfrm>
            <a:off x="7169040" y="3741840"/>
            <a:ext cx="906480" cy="815040"/>
            <a:chOff x="7169040" y="3741840"/>
            <a:chExt cx="906480" cy="815040"/>
          </a:xfrm>
        </p:grpSpPr>
        <p:sp>
          <p:nvSpPr>
            <p:cNvPr id="2217" name="文本框 35923"/>
            <p:cNvSpPr/>
            <p:nvPr/>
          </p:nvSpPr>
          <p:spPr>
            <a:xfrm>
              <a:off x="7570800" y="4097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8" name="文本框 35924"/>
            <p:cNvSpPr/>
            <p:nvPr/>
          </p:nvSpPr>
          <p:spPr>
            <a:xfrm>
              <a:off x="7642080" y="3741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9" name="直接连接符 35925"/>
            <p:cNvSpPr/>
            <p:nvPr/>
          </p:nvSpPr>
          <p:spPr>
            <a:xfrm>
              <a:off x="7620120" y="416052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20" name="文本框 35926"/>
            <p:cNvSpPr/>
            <p:nvPr/>
          </p:nvSpPr>
          <p:spPr>
            <a:xfrm>
              <a:off x="7169040" y="39574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2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一、引入情境，探究新知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179280" y="479736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出示信息，明确问题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Rectangle 2"/>
          <p:cNvSpPr/>
          <p:nvPr/>
        </p:nvSpPr>
        <p:spPr>
          <a:xfrm>
            <a:off x="995400" y="5591160"/>
            <a:ext cx="7682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要求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桶水共重多少升”怎样列式？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×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你是怎样想的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个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L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就是求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L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倍是多少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Text Box 7"/>
          <p:cNvSpPr/>
          <p:nvPr/>
        </p:nvSpPr>
        <p:spPr>
          <a:xfrm>
            <a:off x="2790720" y="198900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桶水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L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0" name="Text Box 8"/>
          <p:cNvSpPr/>
          <p:nvPr/>
        </p:nvSpPr>
        <p:spPr>
          <a:xfrm>
            <a:off x="2917800" y="389268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桶共多少升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1" name="Text Box 9"/>
          <p:cNvSpPr/>
          <p:nvPr/>
        </p:nvSpPr>
        <p:spPr>
          <a:xfrm>
            <a:off x="484200" y="189000"/>
            <a:ext cx="23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92" name="图片 19464" descr="05"/>
          <p:cNvPicPr/>
          <p:nvPr/>
        </p:nvPicPr>
        <p:blipFill>
          <a:blip r:embed="rId1"/>
          <a:stretch/>
        </p:blipFill>
        <p:spPr>
          <a:xfrm>
            <a:off x="2411280" y="2495520"/>
            <a:ext cx="2559240" cy="143820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9466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224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2225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2226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227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2228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2229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2230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2231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232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2"/>
          <p:cNvSpPr/>
          <p:nvPr/>
        </p:nvSpPr>
        <p:spPr>
          <a:xfrm>
            <a:off x="-84240" y="386064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出示信息，明确问题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6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7" name="Text Box 20"/>
          <p:cNvSpPr/>
          <p:nvPr/>
        </p:nvSpPr>
        <p:spPr>
          <a:xfrm>
            <a:off x="484200" y="189000"/>
            <a:ext cx="29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8" name="Rectangle 2"/>
          <p:cNvSpPr/>
          <p:nvPr/>
        </p:nvSpPr>
        <p:spPr>
          <a:xfrm>
            <a:off x="689040" y="5079960"/>
            <a:ext cx="81849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是根据什么列算式的？（每桶的体积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×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桶数＝总体积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99" name="图片 20486" descr="06"/>
          <p:cNvPicPr/>
          <p:nvPr/>
        </p:nvPicPr>
        <p:blipFill>
          <a:blip r:embed="rId1"/>
          <a:stretch/>
        </p:blipFill>
        <p:spPr>
          <a:xfrm>
            <a:off x="1403280" y="2133720"/>
            <a:ext cx="1011240" cy="1796760"/>
          </a:xfrm>
          <a:prstGeom prst="rect">
            <a:avLst/>
          </a:prstGeom>
          <a:ln w="0">
            <a:noFill/>
          </a:ln>
        </p:spPr>
      </p:pic>
      <p:grpSp>
        <p:nvGrpSpPr>
          <p:cNvPr id="1500" name="组合 20487"/>
          <p:cNvGrpSpPr/>
          <p:nvPr/>
        </p:nvGrpSpPr>
        <p:grpSpPr>
          <a:xfrm>
            <a:off x="2790720" y="2530440"/>
            <a:ext cx="2971800" cy="824760"/>
            <a:chOff x="2790720" y="2530440"/>
            <a:chExt cx="2971800" cy="824760"/>
          </a:xfrm>
        </p:grpSpPr>
        <p:sp>
          <p:nvSpPr>
            <p:cNvPr id="1501" name="Text Box 6"/>
            <p:cNvSpPr/>
            <p:nvPr/>
          </p:nvSpPr>
          <p:spPr>
            <a:xfrm>
              <a:off x="2975040" y="2759040"/>
              <a:ext cx="27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桶是多少升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02" name="组合 20489"/>
            <p:cNvGrpSpPr/>
            <p:nvPr/>
          </p:nvGrpSpPr>
          <p:grpSpPr>
            <a:xfrm>
              <a:off x="2790720" y="2530440"/>
              <a:ext cx="365040" cy="824760"/>
              <a:chOff x="2790720" y="2530440"/>
              <a:chExt cx="365040" cy="824760"/>
            </a:xfrm>
          </p:grpSpPr>
          <p:sp>
            <p:nvSpPr>
              <p:cNvPr id="1503" name="文本框 20490"/>
              <p:cNvSpPr/>
              <p:nvPr/>
            </p:nvSpPr>
            <p:spPr>
              <a:xfrm>
                <a:off x="2790720" y="2895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4" name="文本框 20491"/>
              <p:cNvSpPr/>
              <p:nvPr/>
            </p:nvSpPr>
            <p:spPr>
              <a:xfrm>
                <a:off x="2795400" y="2530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5" name="直接连接符 20492"/>
              <p:cNvSpPr/>
              <p:nvPr/>
            </p:nvSpPr>
            <p:spPr>
              <a:xfrm>
                <a:off x="2830320" y="29592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06" name="组合 20493"/>
          <p:cNvGrpSpPr/>
          <p:nvPr/>
        </p:nvGrpSpPr>
        <p:grpSpPr>
          <a:xfrm>
            <a:off x="698400" y="4264200"/>
            <a:ext cx="8185320" cy="838800"/>
            <a:chOff x="698400" y="4264200"/>
            <a:chExt cx="8185320" cy="838800"/>
          </a:xfrm>
        </p:grpSpPr>
        <p:sp>
          <p:nvSpPr>
            <p:cNvPr id="1507" name="Rectangle 2"/>
            <p:cNvSpPr/>
            <p:nvPr/>
          </p:nvSpPr>
          <p:spPr>
            <a:xfrm>
              <a:off x="698400" y="4427640"/>
              <a:ext cx="81853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要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“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           ”怎样列式？（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2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08" name="组合 20495"/>
            <p:cNvGrpSpPr/>
            <p:nvPr/>
          </p:nvGrpSpPr>
          <p:grpSpPr>
            <a:xfrm>
              <a:off x="1903320" y="4278240"/>
              <a:ext cx="2971800" cy="824760"/>
              <a:chOff x="1903320" y="4278240"/>
              <a:chExt cx="2971800" cy="824760"/>
            </a:xfrm>
          </p:grpSpPr>
          <p:sp>
            <p:nvSpPr>
              <p:cNvPr id="1509" name="Text Box 6"/>
              <p:cNvSpPr/>
              <p:nvPr/>
            </p:nvSpPr>
            <p:spPr>
              <a:xfrm>
                <a:off x="2087640" y="4506840"/>
                <a:ext cx="27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 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桶是多少升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10" name="组合 20497"/>
              <p:cNvGrpSpPr/>
              <p:nvPr/>
            </p:nvGrpSpPr>
            <p:grpSpPr>
              <a:xfrm>
                <a:off x="1903320" y="4278240"/>
                <a:ext cx="365040" cy="824760"/>
                <a:chOff x="1903320" y="4278240"/>
                <a:chExt cx="365040" cy="824760"/>
              </a:xfrm>
            </p:grpSpPr>
            <p:sp>
              <p:nvSpPr>
                <p:cNvPr id="1511" name="文本框 20498"/>
                <p:cNvSpPr/>
                <p:nvPr/>
              </p:nvSpPr>
              <p:spPr>
                <a:xfrm>
                  <a:off x="1903320" y="464328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2" name="文本框 20499"/>
                <p:cNvSpPr/>
                <p:nvPr/>
              </p:nvSpPr>
              <p:spPr>
                <a:xfrm>
                  <a:off x="1908000" y="42782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3" name="直接连接符 20500"/>
                <p:cNvSpPr/>
                <p:nvPr/>
              </p:nvSpPr>
              <p:spPr>
                <a:xfrm>
                  <a:off x="1942920" y="470700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514" name="组合 20501"/>
            <p:cNvGrpSpPr/>
            <p:nvPr/>
          </p:nvGrpSpPr>
          <p:grpSpPr>
            <a:xfrm>
              <a:off x="5598000" y="4264200"/>
              <a:ext cx="669240" cy="824760"/>
              <a:chOff x="5598000" y="4264200"/>
              <a:chExt cx="669240" cy="824760"/>
            </a:xfrm>
          </p:grpSpPr>
          <p:sp>
            <p:nvSpPr>
              <p:cNvPr id="1515" name="Text Box 15"/>
              <p:cNvSpPr/>
              <p:nvPr/>
            </p:nvSpPr>
            <p:spPr>
              <a:xfrm>
                <a:off x="5598000" y="45021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×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16" name="组合 20503"/>
              <p:cNvGrpSpPr/>
              <p:nvPr/>
            </p:nvGrpSpPr>
            <p:grpSpPr>
              <a:xfrm>
                <a:off x="5902200" y="4264200"/>
                <a:ext cx="365040" cy="824760"/>
                <a:chOff x="5902200" y="4264200"/>
                <a:chExt cx="365040" cy="824760"/>
              </a:xfrm>
            </p:grpSpPr>
            <p:sp>
              <p:nvSpPr>
                <p:cNvPr id="1517" name="文本框 20504"/>
                <p:cNvSpPr/>
                <p:nvPr/>
              </p:nvSpPr>
              <p:spPr>
                <a:xfrm>
                  <a:off x="5902200" y="462924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8" name="文本框 20505"/>
                <p:cNvSpPr/>
                <p:nvPr/>
              </p:nvSpPr>
              <p:spPr>
                <a:xfrm>
                  <a:off x="5906880" y="42642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9" name="直接连接符 20506"/>
                <p:cNvSpPr/>
                <p:nvPr/>
              </p:nvSpPr>
              <p:spPr>
                <a:xfrm>
                  <a:off x="5941800" y="469296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520" name="组合 20507"/>
          <p:cNvGrpSpPr/>
          <p:nvPr/>
        </p:nvGrpSpPr>
        <p:grpSpPr>
          <a:xfrm>
            <a:off x="692280" y="5651640"/>
            <a:ext cx="9204120" cy="824760"/>
            <a:chOff x="692280" y="5651640"/>
            <a:chExt cx="9204120" cy="824760"/>
          </a:xfrm>
        </p:grpSpPr>
        <p:sp>
          <p:nvSpPr>
            <p:cNvPr id="1521" name="Rectangle 2"/>
            <p:cNvSpPr/>
            <p:nvPr/>
          </p:nvSpPr>
          <p:spPr>
            <a:xfrm>
              <a:off x="692280" y="5800680"/>
              <a:ext cx="920412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.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表示求半桶水的体积，就是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L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一半，也就是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L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         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2" name="组合 20509"/>
            <p:cNvGrpSpPr/>
            <p:nvPr/>
          </p:nvGrpSpPr>
          <p:grpSpPr>
            <a:xfrm>
              <a:off x="966600" y="5651640"/>
              <a:ext cx="1037520" cy="824760"/>
              <a:chOff x="966600" y="5651640"/>
              <a:chExt cx="1037520" cy="824760"/>
            </a:xfrm>
          </p:grpSpPr>
          <p:sp>
            <p:nvSpPr>
              <p:cNvPr id="1523" name="Rectangle 2"/>
              <p:cNvSpPr/>
              <p:nvPr/>
            </p:nvSpPr>
            <p:spPr>
              <a:xfrm>
                <a:off x="966600" y="5805720"/>
                <a:ext cx="502920" cy="57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2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24" name="组合 20511"/>
              <p:cNvGrpSpPr/>
              <p:nvPr/>
            </p:nvGrpSpPr>
            <p:grpSpPr>
              <a:xfrm>
                <a:off x="1334880" y="5651640"/>
                <a:ext cx="669240" cy="824760"/>
                <a:chOff x="1334880" y="5651640"/>
                <a:chExt cx="669240" cy="824760"/>
              </a:xfrm>
            </p:grpSpPr>
            <p:sp>
              <p:nvSpPr>
                <p:cNvPr id="1525" name="Text Box 15"/>
                <p:cNvSpPr/>
                <p:nvPr/>
              </p:nvSpPr>
              <p:spPr>
                <a:xfrm>
                  <a:off x="1334880" y="5889600"/>
                  <a:ext cx="3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×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526" name="组合 20513"/>
                <p:cNvGrpSpPr/>
                <p:nvPr/>
              </p:nvGrpSpPr>
              <p:grpSpPr>
                <a:xfrm>
                  <a:off x="1639080" y="5651640"/>
                  <a:ext cx="365040" cy="824760"/>
                  <a:chOff x="1639080" y="5651640"/>
                  <a:chExt cx="365040" cy="824760"/>
                </a:xfrm>
              </p:grpSpPr>
              <p:sp>
                <p:nvSpPr>
                  <p:cNvPr id="1527" name="文本框 20514"/>
                  <p:cNvSpPr/>
                  <p:nvPr/>
                </p:nvSpPr>
                <p:spPr>
                  <a:xfrm>
                    <a:off x="1639080" y="601668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28" name="文本框 20515"/>
                  <p:cNvSpPr/>
                  <p:nvPr/>
                </p:nvSpPr>
                <p:spPr>
                  <a:xfrm>
                    <a:off x="1643760" y="56516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29" name="直接连接符 20516"/>
                  <p:cNvSpPr/>
                  <p:nvPr/>
                </p:nvSpPr>
                <p:spPr>
                  <a:xfrm>
                    <a:off x="1678680" y="6080400"/>
                    <a:ext cx="252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0" name="组合 20517"/>
            <p:cNvGrpSpPr/>
            <p:nvPr/>
          </p:nvGrpSpPr>
          <p:grpSpPr>
            <a:xfrm>
              <a:off x="8364240" y="5670360"/>
              <a:ext cx="936360" cy="776880"/>
              <a:chOff x="8364240" y="5670360"/>
              <a:chExt cx="936360" cy="776880"/>
            </a:xfrm>
          </p:grpSpPr>
          <p:sp>
            <p:nvSpPr>
              <p:cNvPr id="1531" name="文本框 20518"/>
              <p:cNvSpPr/>
              <p:nvPr/>
            </p:nvSpPr>
            <p:spPr>
              <a:xfrm>
                <a:off x="8364240" y="598752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（  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2" name="文本框 20519"/>
              <p:cNvSpPr/>
              <p:nvPr/>
            </p:nvSpPr>
            <p:spPr>
              <a:xfrm>
                <a:off x="8370360" y="5670360"/>
                <a:ext cx="85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（  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3" name="直接连接符 20520"/>
              <p:cNvSpPr/>
              <p:nvPr/>
            </p:nvSpPr>
            <p:spPr>
              <a:xfrm>
                <a:off x="8519400" y="6079680"/>
                <a:ext cx="53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2"/>
          <p:cNvSpPr/>
          <p:nvPr/>
        </p:nvSpPr>
        <p:spPr>
          <a:xfrm>
            <a:off x="179280" y="378936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出示信息，明确问题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6" name="Rectangle 2"/>
          <p:cNvSpPr/>
          <p:nvPr/>
        </p:nvSpPr>
        <p:spPr>
          <a:xfrm>
            <a:off x="958680" y="5805360"/>
            <a:ext cx="81853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比较上面两个算式表示的意思有什么相同之处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208080" y="623088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一个数乘几分之几表示的是求这个数的几分之几是多少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8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9" name="Text Box 21"/>
          <p:cNvSpPr/>
          <p:nvPr/>
        </p:nvSpPr>
        <p:spPr>
          <a:xfrm>
            <a:off x="484200" y="189000"/>
            <a:ext cx="307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0" name="图片 21511" descr="07"/>
          <p:cNvPicPr/>
          <p:nvPr/>
        </p:nvPicPr>
        <p:blipFill>
          <a:blip r:embed="rId1"/>
          <a:stretch/>
        </p:blipFill>
        <p:spPr>
          <a:xfrm>
            <a:off x="1403280" y="2060640"/>
            <a:ext cx="101448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541" name="组合 21512"/>
          <p:cNvGrpSpPr/>
          <p:nvPr/>
        </p:nvGrpSpPr>
        <p:grpSpPr>
          <a:xfrm>
            <a:off x="2790720" y="2530440"/>
            <a:ext cx="2971800" cy="824760"/>
            <a:chOff x="2790720" y="2530440"/>
            <a:chExt cx="2971800" cy="824760"/>
          </a:xfrm>
        </p:grpSpPr>
        <p:sp>
          <p:nvSpPr>
            <p:cNvPr id="1542" name="Text Box 6"/>
            <p:cNvSpPr/>
            <p:nvPr/>
          </p:nvSpPr>
          <p:spPr>
            <a:xfrm>
              <a:off x="2975040" y="2759040"/>
              <a:ext cx="27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桶是多少升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3" name="组合 21514"/>
            <p:cNvGrpSpPr/>
            <p:nvPr/>
          </p:nvGrpSpPr>
          <p:grpSpPr>
            <a:xfrm>
              <a:off x="2790720" y="2530440"/>
              <a:ext cx="365040" cy="824760"/>
              <a:chOff x="2790720" y="2530440"/>
              <a:chExt cx="365040" cy="824760"/>
            </a:xfrm>
          </p:grpSpPr>
          <p:sp>
            <p:nvSpPr>
              <p:cNvPr id="1544" name="文本框 21515"/>
              <p:cNvSpPr/>
              <p:nvPr/>
            </p:nvSpPr>
            <p:spPr>
              <a:xfrm>
                <a:off x="2790720" y="2895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5" name="文本框 21516"/>
              <p:cNvSpPr/>
              <p:nvPr/>
            </p:nvSpPr>
            <p:spPr>
              <a:xfrm>
                <a:off x="2795400" y="2530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6" name="直接连接符 21517"/>
              <p:cNvSpPr/>
              <p:nvPr/>
            </p:nvSpPr>
            <p:spPr>
              <a:xfrm>
                <a:off x="2830320" y="29592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47" name="组合 21518"/>
          <p:cNvGrpSpPr/>
          <p:nvPr/>
        </p:nvGrpSpPr>
        <p:grpSpPr>
          <a:xfrm>
            <a:off x="971640" y="4121280"/>
            <a:ext cx="8184960" cy="838800"/>
            <a:chOff x="971640" y="4121280"/>
            <a:chExt cx="8184960" cy="838800"/>
          </a:xfrm>
        </p:grpSpPr>
        <p:sp>
          <p:nvSpPr>
            <p:cNvPr id="1548" name="Rectangle 2"/>
            <p:cNvSpPr/>
            <p:nvPr/>
          </p:nvSpPr>
          <p:spPr>
            <a:xfrm>
              <a:off x="971640" y="4284720"/>
              <a:ext cx="81849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要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“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            ”怎样列式？（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2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9" name="组合 21520"/>
            <p:cNvGrpSpPr/>
            <p:nvPr/>
          </p:nvGrpSpPr>
          <p:grpSpPr>
            <a:xfrm>
              <a:off x="2176200" y="4135320"/>
              <a:ext cx="2971080" cy="824760"/>
              <a:chOff x="2176200" y="4135320"/>
              <a:chExt cx="2971080" cy="824760"/>
            </a:xfrm>
          </p:grpSpPr>
          <p:sp>
            <p:nvSpPr>
              <p:cNvPr id="1550" name="Text Box 6"/>
              <p:cNvSpPr/>
              <p:nvPr/>
            </p:nvSpPr>
            <p:spPr>
              <a:xfrm>
                <a:off x="2360160" y="4363920"/>
                <a:ext cx="27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 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桶是多少升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51" name="组合 21522"/>
              <p:cNvGrpSpPr/>
              <p:nvPr/>
            </p:nvGrpSpPr>
            <p:grpSpPr>
              <a:xfrm>
                <a:off x="2176200" y="4135320"/>
                <a:ext cx="364320" cy="824760"/>
                <a:chOff x="2176200" y="4135320"/>
                <a:chExt cx="364320" cy="824760"/>
              </a:xfrm>
            </p:grpSpPr>
            <p:sp>
              <p:nvSpPr>
                <p:cNvPr id="1552" name="文本框 21523"/>
                <p:cNvSpPr/>
                <p:nvPr/>
              </p:nvSpPr>
              <p:spPr>
                <a:xfrm>
                  <a:off x="2176200" y="4500360"/>
                  <a:ext cx="28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53" name="文本框 21524"/>
                <p:cNvSpPr/>
                <p:nvPr/>
              </p:nvSpPr>
              <p:spPr>
                <a:xfrm>
                  <a:off x="2180520" y="41353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54" name="直接连接符 21525"/>
                <p:cNvSpPr/>
                <p:nvPr/>
              </p:nvSpPr>
              <p:spPr>
                <a:xfrm>
                  <a:off x="2215440" y="4564080"/>
                  <a:ext cx="2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555" name="组合 21526"/>
            <p:cNvGrpSpPr/>
            <p:nvPr/>
          </p:nvGrpSpPr>
          <p:grpSpPr>
            <a:xfrm>
              <a:off x="5870880" y="4121280"/>
              <a:ext cx="669240" cy="824760"/>
              <a:chOff x="5870880" y="4121280"/>
              <a:chExt cx="669240" cy="824760"/>
            </a:xfrm>
          </p:grpSpPr>
          <p:sp>
            <p:nvSpPr>
              <p:cNvPr id="1556" name="Text Box 15"/>
              <p:cNvSpPr/>
              <p:nvPr/>
            </p:nvSpPr>
            <p:spPr>
              <a:xfrm>
                <a:off x="5870880" y="43592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×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57" name="组合 21528"/>
              <p:cNvGrpSpPr/>
              <p:nvPr/>
            </p:nvGrpSpPr>
            <p:grpSpPr>
              <a:xfrm>
                <a:off x="6175080" y="4121280"/>
                <a:ext cx="365040" cy="824760"/>
                <a:chOff x="6175080" y="4121280"/>
                <a:chExt cx="365040" cy="824760"/>
              </a:xfrm>
            </p:grpSpPr>
            <p:sp>
              <p:nvSpPr>
                <p:cNvPr id="1558" name="文本框 21529"/>
                <p:cNvSpPr/>
                <p:nvPr/>
              </p:nvSpPr>
              <p:spPr>
                <a:xfrm>
                  <a:off x="6175080" y="44863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59" name="文本框 21530"/>
                <p:cNvSpPr/>
                <p:nvPr/>
              </p:nvSpPr>
              <p:spPr>
                <a:xfrm>
                  <a:off x="6179760" y="4121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60" name="直接连接符 21531"/>
                <p:cNvSpPr/>
                <p:nvPr/>
              </p:nvSpPr>
              <p:spPr>
                <a:xfrm>
                  <a:off x="6214680" y="455004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1561" name="Rectangle 2"/>
          <p:cNvSpPr/>
          <p:nvPr/>
        </p:nvSpPr>
        <p:spPr>
          <a:xfrm>
            <a:off x="961920" y="4797360"/>
            <a:ext cx="81853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是根据什么列算式的？（每桶的体积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×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桶数＝总体积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62" name="组合 21533"/>
          <p:cNvGrpSpPr/>
          <p:nvPr/>
        </p:nvGrpSpPr>
        <p:grpSpPr>
          <a:xfrm>
            <a:off x="961920" y="5156280"/>
            <a:ext cx="8172360" cy="834120"/>
            <a:chOff x="961920" y="5156280"/>
            <a:chExt cx="8172360" cy="834120"/>
          </a:xfrm>
        </p:grpSpPr>
        <p:grpSp>
          <p:nvGrpSpPr>
            <p:cNvPr id="1563" name="组合 21534"/>
            <p:cNvGrpSpPr/>
            <p:nvPr/>
          </p:nvGrpSpPr>
          <p:grpSpPr>
            <a:xfrm>
              <a:off x="961920" y="5156280"/>
              <a:ext cx="8172360" cy="828000"/>
              <a:chOff x="961920" y="5156280"/>
              <a:chExt cx="8172360" cy="828000"/>
            </a:xfrm>
          </p:grpSpPr>
          <p:grpSp>
            <p:nvGrpSpPr>
              <p:cNvPr id="1564" name="组合 21535"/>
              <p:cNvGrpSpPr/>
              <p:nvPr/>
            </p:nvGrpSpPr>
            <p:grpSpPr>
              <a:xfrm>
                <a:off x="1236600" y="5159520"/>
                <a:ext cx="1035360" cy="824760"/>
                <a:chOff x="1236600" y="5159520"/>
                <a:chExt cx="1035360" cy="824760"/>
              </a:xfrm>
            </p:grpSpPr>
            <p:sp>
              <p:nvSpPr>
                <p:cNvPr id="1565" name="Rectangle 2"/>
                <p:cNvSpPr/>
                <p:nvPr/>
              </p:nvSpPr>
              <p:spPr>
                <a:xfrm>
                  <a:off x="1236600" y="5313600"/>
                  <a:ext cx="502200" cy="57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2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566" name="组合 21537"/>
                <p:cNvGrpSpPr/>
                <p:nvPr/>
              </p:nvGrpSpPr>
              <p:grpSpPr>
                <a:xfrm>
                  <a:off x="1604880" y="5159520"/>
                  <a:ext cx="667080" cy="824760"/>
                  <a:chOff x="1604880" y="5159520"/>
                  <a:chExt cx="667080" cy="824760"/>
                </a:xfrm>
              </p:grpSpPr>
              <p:sp>
                <p:nvSpPr>
                  <p:cNvPr id="1567" name="Text Box 15"/>
                  <p:cNvSpPr/>
                  <p:nvPr/>
                </p:nvSpPr>
                <p:spPr>
                  <a:xfrm>
                    <a:off x="1604880" y="5397480"/>
                    <a:ext cx="358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×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568" name="组合 21539"/>
                  <p:cNvGrpSpPr/>
                  <p:nvPr/>
                </p:nvGrpSpPr>
                <p:grpSpPr>
                  <a:xfrm>
                    <a:off x="1908000" y="5159520"/>
                    <a:ext cx="363960" cy="824760"/>
                    <a:chOff x="1908000" y="5159520"/>
                    <a:chExt cx="363960" cy="824760"/>
                  </a:xfrm>
                </p:grpSpPr>
                <p:sp>
                  <p:nvSpPr>
                    <p:cNvPr id="1569" name="文本框 21540"/>
                    <p:cNvSpPr/>
                    <p:nvPr/>
                  </p:nvSpPr>
                  <p:spPr>
                    <a:xfrm>
                      <a:off x="1908000" y="5524560"/>
                      <a:ext cx="286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4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0" name="文本框 21541"/>
                    <p:cNvSpPr/>
                    <p:nvPr/>
                  </p:nvSpPr>
                  <p:spPr>
                    <a:xfrm>
                      <a:off x="1912320" y="5159520"/>
                      <a:ext cx="359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1" name="直接连接符 21542"/>
                    <p:cNvSpPr/>
                    <p:nvPr/>
                  </p:nvSpPr>
                  <p:spPr>
                    <a:xfrm>
                      <a:off x="1947240" y="5588280"/>
                      <a:ext cx="252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72" name="组合 21543"/>
              <p:cNvGrpSpPr/>
              <p:nvPr/>
            </p:nvGrpSpPr>
            <p:grpSpPr>
              <a:xfrm>
                <a:off x="961920" y="5156280"/>
                <a:ext cx="8172360" cy="777240"/>
                <a:chOff x="961920" y="5156280"/>
                <a:chExt cx="8172360" cy="777240"/>
              </a:xfrm>
            </p:grpSpPr>
            <p:sp>
              <p:nvSpPr>
                <p:cNvPr id="1573" name="Rectangle 2"/>
                <p:cNvSpPr/>
                <p:nvPr/>
              </p:nvSpPr>
              <p:spPr>
                <a:xfrm>
                  <a:off x="961920" y="5299200"/>
                  <a:ext cx="8172360" cy="57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4.</a:t>
                  </a: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     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         </a:t>
                  </a: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表示求    桶水的体积，就是求</a:t>
                  </a: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2</a:t>
                  </a: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宋体"/>
                    </a:rPr>
                    <a:t>L</a:t>
                  </a: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的         。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574" name="组合 21545"/>
                <p:cNvGrpSpPr/>
                <p:nvPr/>
              </p:nvGrpSpPr>
              <p:grpSpPr>
                <a:xfrm>
                  <a:off x="6190920" y="5156280"/>
                  <a:ext cx="934920" cy="777240"/>
                  <a:chOff x="6190920" y="5156280"/>
                  <a:chExt cx="934920" cy="777240"/>
                </a:xfrm>
              </p:grpSpPr>
              <p:grpSp>
                <p:nvGrpSpPr>
                  <p:cNvPr id="1575" name="组合 21546"/>
                  <p:cNvGrpSpPr/>
                  <p:nvPr/>
                </p:nvGrpSpPr>
                <p:grpSpPr>
                  <a:xfrm>
                    <a:off x="6190920" y="5156280"/>
                    <a:ext cx="934920" cy="777240"/>
                    <a:chOff x="6190920" y="5156280"/>
                    <a:chExt cx="934920" cy="777240"/>
                  </a:xfrm>
                </p:grpSpPr>
                <p:sp>
                  <p:nvSpPr>
                    <p:cNvPr id="1576" name="文本框 21547"/>
                    <p:cNvSpPr/>
                    <p:nvPr/>
                  </p:nvSpPr>
                  <p:spPr>
                    <a:xfrm>
                      <a:off x="6190920" y="5473800"/>
                      <a:ext cx="9349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（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7" name="文本框 21548"/>
                    <p:cNvSpPr/>
                    <p:nvPr/>
                  </p:nvSpPr>
                  <p:spPr>
                    <a:xfrm>
                      <a:off x="6197040" y="5156280"/>
                      <a:ext cx="856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（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8" name="直接连接符 21549"/>
                  <p:cNvSpPr/>
                  <p:nvPr/>
                </p:nvSpPr>
                <p:spPr>
                  <a:xfrm>
                    <a:off x="6354360" y="5588280"/>
                    <a:ext cx="539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79" name="组合 21550"/>
            <p:cNvGrpSpPr/>
            <p:nvPr/>
          </p:nvGrpSpPr>
          <p:grpSpPr>
            <a:xfrm>
              <a:off x="2974680" y="5165640"/>
              <a:ext cx="365040" cy="824760"/>
              <a:chOff x="2974680" y="5165640"/>
              <a:chExt cx="365040" cy="824760"/>
            </a:xfrm>
          </p:grpSpPr>
          <p:sp>
            <p:nvSpPr>
              <p:cNvPr id="1580" name="文本框 21551"/>
              <p:cNvSpPr/>
              <p:nvPr/>
            </p:nvSpPr>
            <p:spPr>
              <a:xfrm>
                <a:off x="2974680" y="55306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1" name="文本框 21552"/>
              <p:cNvSpPr/>
              <p:nvPr/>
            </p:nvSpPr>
            <p:spPr>
              <a:xfrm>
                <a:off x="2979360" y="5165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2" name="直接连接符 21553"/>
              <p:cNvSpPr/>
              <p:nvPr/>
            </p:nvSpPr>
            <p:spPr>
              <a:xfrm>
                <a:off x="3014280" y="55944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巩固练习 提升认识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4" name="Text Box 3"/>
          <p:cNvSpPr/>
          <p:nvPr/>
        </p:nvSpPr>
        <p:spPr>
          <a:xfrm>
            <a:off x="1403280" y="22305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袋面粉重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g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已经吃了它的      ，吃了多少千克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5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6" name="Text Box 10"/>
          <p:cNvSpPr/>
          <p:nvPr/>
        </p:nvSpPr>
        <p:spPr>
          <a:xfrm>
            <a:off x="484200" y="189000"/>
            <a:ext cx="35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7" name="组合 22533"/>
          <p:cNvGrpSpPr/>
          <p:nvPr/>
        </p:nvGrpSpPr>
        <p:grpSpPr>
          <a:xfrm>
            <a:off x="5005440" y="1989000"/>
            <a:ext cx="504720" cy="815400"/>
            <a:chOff x="5005440" y="1989000"/>
            <a:chExt cx="504720" cy="815400"/>
          </a:xfrm>
        </p:grpSpPr>
        <p:sp>
          <p:nvSpPr>
            <p:cNvPr id="1588" name="文本框 22534"/>
            <p:cNvSpPr/>
            <p:nvPr/>
          </p:nvSpPr>
          <p:spPr>
            <a:xfrm>
              <a:off x="5005440" y="234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9" name="文本框 22535"/>
            <p:cNvSpPr/>
            <p:nvPr/>
          </p:nvSpPr>
          <p:spPr>
            <a:xfrm>
              <a:off x="5076720" y="198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0" name="直接连接符 22536"/>
            <p:cNvSpPr/>
            <p:nvPr/>
          </p:nvSpPr>
          <p:spPr>
            <a:xfrm>
              <a:off x="5054760" y="2408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91" name="组合 22537"/>
          <p:cNvGrpSpPr/>
          <p:nvPr/>
        </p:nvGrpSpPr>
        <p:grpSpPr>
          <a:xfrm>
            <a:off x="684360" y="3265560"/>
            <a:ext cx="6551640" cy="1302120"/>
            <a:chOff x="684360" y="3265560"/>
            <a:chExt cx="6551640" cy="1302120"/>
          </a:xfrm>
        </p:grpSpPr>
        <p:sp>
          <p:nvSpPr>
            <p:cNvPr id="1592" name="Text Box 6"/>
            <p:cNvSpPr/>
            <p:nvPr/>
          </p:nvSpPr>
          <p:spPr>
            <a:xfrm>
              <a:off x="684360" y="3376440"/>
              <a:ext cx="655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是怎样理解“已经吃了它的      ”这句话的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把一袋面粉平均分成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吃了的占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93" name="组合 22539"/>
            <p:cNvGrpSpPr/>
            <p:nvPr/>
          </p:nvGrpSpPr>
          <p:grpSpPr>
            <a:xfrm>
              <a:off x="5151600" y="3265560"/>
              <a:ext cx="504720" cy="815400"/>
              <a:chOff x="5151600" y="3265560"/>
              <a:chExt cx="504720" cy="815400"/>
            </a:xfrm>
          </p:grpSpPr>
          <p:sp>
            <p:nvSpPr>
              <p:cNvPr id="1594" name="文本框 22540"/>
              <p:cNvSpPr/>
              <p:nvPr/>
            </p:nvSpPr>
            <p:spPr>
              <a:xfrm>
                <a:off x="5151600" y="3621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5" name="文本框 22541"/>
              <p:cNvSpPr/>
              <p:nvPr/>
            </p:nvSpPr>
            <p:spPr>
              <a:xfrm>
                <a:off x="5222880" y="3265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6" name="直接连接符 22542"/>
              <p:cNvSpPr/>
              <p:nvPr/>
            </p:nvSpPr>
            <p:spPr>
              <a:xfrm>
                <a:off x="5200920" y="3684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97" name="组合 22543"/>
          <p:cNvGrpSpPr/>
          <p:nvPr/>
        </p:nvGrpSpPr>
        <p:grpSpPr>
          <a:xfrm>
            <a:off x="1116000" y="4292640"/>
            <a:ext cx="6840720" cy="815400"/>
            <a:chOff x="1116000" y="4292640"/>
            <a:chExt cx="6840720" cy="815400"/>
          </a:xfrm>
        </p:grpSpPr>
        <p:sp>
          <p:nvSpPr>
            <p:cNvPr id="1598" name="Text Box 12"/>
            <p:cNvSpPr/>
            <p:nvPr/>
          </p:nvSpPr>
          <p:spPr>
            <a:xfrm>
              <a:off x="1116000" y="4522680"/>
              <a:ext cx="684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要求吃了多少千克，请你列出算式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(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×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)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99" name="组合 22545"/>
            <p:cNvGrpSpPr/>
            <p:nvPr/>
          </p:nvGrpSpPr>
          <p:grpSpPr>
            <a:xfrm>
              <a:off x="6481800" y="4292640"/>
              <a:ext cx="504720" cy="815400"/>
              <a:chOff x="6481800" y="4292640"/>
              <a:chExt cx="504720" cy="815400"/>
            </a:xfrm>
          </p:grpSpPr>
          <p:sp>
            <p:nvSpPr>
              <p:cNvPr id="1600" name="文本框 22546"/>
              <p:cNvSpPr/>
              <p:nvPr/>
            </p:nvSpPr>
            <p:spPr>
              <a:xfrm>
                <a:off x="6481800" y="4648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1" name="文本框 22547"/>
              <p:cNvSpPr/>
              <p:nvPr/>
            </p:nvSpPr>
            <p:spPr>
              <a:xfrm>
                <a:off x="6553080" y="4292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2" name="直接连接符 22548"/>
              <p:cNvSpPr/>
              <p:nvPr/>
            </p:nvSpPr>
            <p:spPr>
              <a:xfrm>
                <a:off x="6531120" y="4712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03" name="组合 22549"/>
          <p:cNvGrpSpPr/>
          <p:nvPr/>
        </p:nvGrpSpPr>
        <p:grpSpPr>
          <a:xfrm>
            <a:off x="1239840" y="4897440"/>
            <a:ext cx="7126200" cy="815400"/>
            <a:chOff x="1239840" y="4897440"/>
            <a:chExt cx="7126200" cy="815400"/>
          </a:xfrm>
        </p:grpSpPr>
        <p:sp>
          <p:nvSpPr>
            <p:cNvPr id="1604" name="Text Box 8"/>
            <p:cNvSpPr/>
            <p:nvPr/>
          </p:nvSpPr>
          <p:spPr>
            <a:xfrm>
              <a:off x="1239840" y="5106960"/>
              <a:ext cx="71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是根据什么列出算式的？（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g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      是多少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05" name="组合 22551"/>
            <p:cNvGrpSpPr/>
            <p:nvPr/>
          </p:nvGrpSpPr>
          <p:grpSpPr>
            <a:xfrm>
              <a:off x="6059520" y="4897440"/>
              <a:ext cx="504720" cy="815400"/>
              <a:chOff x="6059520" y="4897440"/>
              <a:chExt cx="504720" cy="815400"/>
            </a:xfrm>
          </p:grpSpPr>
          <p:sp>
            <p:nvSpPr>
              <p:cNvPr id="1606" name="文本框 22552"/>
              <p:cNvSpPr/>
              <p:nvPr/>
            </p:nvSpPr>
            <p:spPr>
              <a:xfrm>
                <a:off x="6059520" y="5253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7" name="文本框 22553"/>
              <p:cNvSpPr/>
              <p:nvPr/>
            </p:nvSpPr>
            <p:spPr>
              <a:xfrm>
                <a:off x="6130800" y="4897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8" name="直接连接符 22554"/>
              <p:cNvSpPr/>
              <p:nvPr/>
            </p:nvSpPr>
            <p:spPr>
              <a:xfrm>
                <a:off x="6108840" y="5316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2"/>
          <p:cNvSpPr/>
          <p:nvPr/>
        </p:nvSpPr>
        <p:spPr>
          <a:xfrm>
            <a:off x="179280" y="5375160"/>
            <a:ext cx="72676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0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出示信息，明确问题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1" name="Rectangle 2"/>
          <p:cNvSpPr/>
          <p:nvPr/>
        </p:nvSpPr>
        <p:spPr>
          <a:xfrm>
            <a:off x="966960" y="593244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是怎样理解“种土豆的面积占这块地的      ”这句话的意思的？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把这块地平均分成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份，种土豆的面积占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份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2" name="Text Box 5"/>
          <p:cNvSpPr/>
          <p:nvPr/>
        </p:nvSpPr>
        <p:spPr>
          <a:xfrm>
            <a:off x="1332000" y="2205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李伯伯家有一块      公顷的地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3" name="Text Box 13"/>
          <p:cNvSpPr/>
          <p:nvPr/>
        </p:nvSpPr>
        <p:spPr>
          <a:xfrm>
            <a:off x="1260360" y="4005360"/>
            <a:ext cx="47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种土豆的面积是多少公顷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种玉米的面积是多少公顷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4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5" name="Text Box 16"/>
          <p:cNvSpPr/>
          <p:nvPr/>
        </p:nvSpPr>
        <p:spPr>
          <a:xfrm>
            <a:off x="484200" y="189000"/>
            <a:ext cx="36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6" name="Text Box 17"/>
          <p:cNvSpPr/>
          <p:nvPr/>
        </p:nvSpPr>
        <p:spPr>
          <a:xfrm>
            <a:off x="1044720" y="5051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问题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种土豆的面积是多少公顷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17" name="图片 23561" descr="08"/>
          <p:cNvPicPr/>
          <p:nvPr/>
        </p:nvPicPr>
        <p:blipFill>
          <a:blip r:embed="rId1"/>
          <a:stretch/>
        </p:blipFill>
        <p:spPr>
          <a:xfrm>
            <a:off x="6718320" y="2325600"/>
            <a:ext cx="11700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618" name="组合 23562"/>
          <p:cNvGrpSpPr/>
          <p:nvPr/>
        </p:nvGrpSpPr>
        <p:grpSpPr>
          <a:xfrm>
            <a:off x="2268360" y="2787480"/>
            <a:ext cx="4104000" cy="1285560"/>
            <a:chOff x="2268360" y="2787480"/>
            <a:chExt cx="4104000" cy="1285560"/>
          </a:xfrm>
        </p:grpSpPr>
        <p:sp>
          <p:nvSpPr>
            <p:cNvPr id="1619" name="AutoShape 27"/>
            <p:cNvSpPr/>
            <p:nvPr/>
          </p:nvSpPr>
          <p:spPr>
            <a:xfrm>
              <a:off x="2268360" y="2854440"/>
              <a:ext cx="4104000" cy="1152360"/>
            </a:xfrm>
            <a:prstGeom prst="wedgeRoundRectCallout">
              <a:avLst>
                <a:gd name="adj1" fmla="val 57504"/>
                <a:gd name="adj2" fmla="val -8402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种土豆的面积占这块地的    ，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种玉米的面积占    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20" name="组合 23564"/>
            <p:cNvGrpSpPr/>
            <p:nvPr/>
          </p:nvGrpSpPr>
          <p:grpSpPr>
            <a:xfrm>
              <a:off x="5388120" y="2787480"/>
              <a:ext cx="533160" cy="815400"/>
              <a:chOff x="5388120" y="2787480"/>
              <a:chExt cx="533160" cy="815400"/>
            </a:xfrm>
          </p:grpSpPr>
          <p:sp>
            <p:nvSpPr>
              <p:cNvPr id="1621" name="文本框 23565"/>
              <p:cNvSpPr/>
              <p:nvPr/>
            </p:nvSpPr>
            <p:spPr>
              <a:xfrm>
                <a:off x="5416560" y="3143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2" name="文本框 23566"/>
              <p:cNvSpPr/>
              <p:nvPr/>
            </p:nvSpPr>
            <p:spPr>
              <a:xfrm>
                <a:off x="5400720" y="2787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3" name="直接连接符 23567"/>
              <p:cNvSpPr/>
              <p:nvPr/>
            </p:nvSpPr>
            <p:spPr>
              <a:xfrm>
                <a:off x="5388120" y="32065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24" name="组合 23568"/>
            <p:cNvGrpSpPr/>
            <p:nvPr/>
          </p:nvGrpSpPr>
          <p:grpSpPr>
            <a:xfrm>
              <a:off x="4361040" y="3257640"/>
              <a:ext cx="533160" cy="815400"/>
              <a:chOff x="4361040" y="3257640"/>
              <a:chExt cx="533160" cy="815400"/>
            </a:xfrm>
          </p:grpSpPr>
          <p:sp>
            <p:nvSpPr>
              <p:cNvPr id="1625" name="文本框 23569"/>
              <p:cNvSpPr/>
              <p:nvPr/>
            </p:nvSpPr>
            <p:spPr>
              <a:xfrm>
                <a:off x="4389480" y="3613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6" name="文本框 23570"/>
              <p:cNvSpPr/>
              <p:nvPr/>
            </p:nvSpPr>
            <p:spPr>
              <a:xfrm>
                <a:off x="4373640" y="3257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7" name="直接连接符 23571"/>
              <p:cNvSpPr/>
              <p:nvPr/>
            </p:nvSpPr>
            <p:spPr>
              <a:xfrm>
                <a:off x="4361040" y="3676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28" name="组合 23572"/>
          <p:cNvGrpSpPr/>
          <p:nvPr/>
        </p:nvGrpSpPr>
        <p:grpSpPr>
          <a:xfrm>
            <a:off x="3286080" y="1984320"/>
            <a:ext cx="533160" cy="815400"/>
            <a:chOff x="3286080" y="1984320"/>
            <a:chExt cx="533160" cy="815400"/>
          </a:xfrm>
        </p:grpSpPr>
        <p:sp>
          <p:nvSpPr>
            <p:cNvPr id="1629" name="文本框 23573"/>
            <p:cNvSpPr/>
            <p:nvPr/>
          </p:nvSpPr>
          <p:spPr>
            <a:xfrm>
              <a:off x="3314520" y="2340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0" name="文本框 23574"/>
            <p:cNvSpPr/>
            <p:nvPr/>
          </p:nvSpPr>
          <p:spPr>
            <a:xfrm>
              <a:off x="3298680" y="1984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1" name="直接连接符 23575"/>
            <p:cNvSpPr/>
            <p:nvPr/>
          </p:nvSpPr>
          <p:spPr>
            <a:xfrm>
              <a:off x="3286080" y="24033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2" name="组合 23576"/>
          <p:cNvGrpSpPr/>
          <p:nvPr/>
        </p:nvGrpSpPr>
        <p:grpSpPr>
          <a:xfrm>
            <a:off x="5977080" y="5626080"/>
            <a:ext cx="533160" cy="815400"/>
            <a:chOff x="5977080" y="5626080"/>
            <a:chExt cx="533160" cy="815400"/>
          </a:xfrm>
        </p:grpSpPr>
        <p:sp>
          <p:nvSpPr>
            <p:cNvPr id="1633" name="文本框 23577"/>
            <p:cNvSpPr/>
            <p:nvPr/>
          </p:nvSpPr>
          <p:spPr>
            <a:xfrm>
              <a:off x="6005520" y="5981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4" name="文本框 23578"/>
            <p:cNvSpPr/>
            <p:nvPr/>
          </p:nvSpPr>
          <p:spPr>
            <a:xfrm>
              <a:off x="5989680" y="5626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5" name="直接连接符 23579"/>
            <p:cNvSpPr/>
            <p:nvPr/>
          </p:nvSpPr>
          <p:spPr>
            <a:xfrm>
              <a:off x="5977080" y="6045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7" name="Text Box 3"/>
          <p:cNvSpPr/>
          <p:nvPr/>
        </p:nvSpPr>
        <p:spPr>
          <a:xfrm>
            <a:off x="1117440" y="1917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样列式呢？你是怎样想到的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8" name="Text Box 4"/>
          <p:cNvSpPr/>
          <p:nvPr/>
        </p:nvSpPr>
        <p:spPr>
          <a:xfrm>
            <a:off x="1262160" y="2563920"/>
            <a:ext cx="69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求       公顷的       是多少，可以用                   表示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9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0" name="Text Box 13"/>
          <p:cNvSpPr/>
          <p:nvPr/>
        </p:nvSpPr>
        <p:spPr>
          <a:xfrm>
            <a:off x="484200" y="189000"/>
            <a:ext cx="34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1" name="Text Box 16"/>
          <p:cNvSpPr/>
          <p:nvPr/>
        </p:nvSpPr>
        <p:spPr>
          <a:xfrm>
            <a:off x="1450800" y="5510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2" name="Text Box 23"/>
          <p:cNvSpPr/>
          <p:nvPr/>
        </p:nvSpPr>
        <p:spPr>
          <a:xfrm>
            <a:off x="1177920" y="480708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样计算呢？请你写出计算过程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3" name="组合 24584"/>
          <p:cNvGrpSpPr/>
          <p:nvPr/>
        </p:nvGrpSpPr>
        <p:grpSpPr>
          <a:xfrm>
            <a:off x="1936800" y="2349360"/>
            <a:ext cx="533160" cy="815400"/>
            <a:chOff x="1936800" y="2349360"/>
            <a:chExt cx="533160" cy="815400"/>
          </a:xfrm>
        </p:grpSpPr>
        <p:sp>
          <p:nvSpPr>
            <p:cNvPr id="1644" name="文本框 24585"/>
            <p:cNvSpPr/>
            <p:nvPr/>
          </p:nvSpPr>
          <p:spPr>
            <a:xfrm>
              <a:off x="1965240" y="2705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5" name="文本框 24586"/>
            <p:cNvSpPr/>
            <p:nvPr/>
          </p:nvSpPr>
          <p:spPr>
            <a:xfrm>
              <a:off x="1949400" y="234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6" name="直接连接符 24587"/>
            <p:cNvSpPr/>
            <p:nvPr/>
          </p:nvSpPr>
          <p:spPr>
            <a:xfrm>
              <a:off x="1936800" y="2768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47" name="组合 24588"/>
          <p:cNvGrpSpPr/>
          <p:nvPr/>
        </p:nvGrpSpPr>
        <p:grpSpPr>
          <a:xfrm>
            <a:off x="3195720" y="2352600"/>
            <a:ext cx="533160" cy="815400"/>
            <a:chOff x="3195720" y="2352600"/>
            <a:chExt cx="533160" cy="815400"/>
          </a:xfrm>
        </p:grpSpPr>
        <p:sp>
          <p:nvSpPr>
            <p:cNvPr id="1648" name="文本框 24589"/>
            <p:cNvSpPr/>
            <p:nvPr/>
          </p:nvSpPr>
          <p:spPr>
            <a:xfrm>
              <a:off x="3224160" y="2708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9" name="文本框 24590"/>
            <p:cNvSpPr/>
            <p:nvPr/>
          </p:nvSpPr>
          <p:spPr>
            <a:xfrm>
              <a:off x="3208320" y="2352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0" name="直接连接符 24591"/>
            <p:cNvSpPr/>
            <p:nvPr/>
          </p:nvSpPr>
          <p:spPr>
            <a:xfrm>
              <a:off x="3195720" y="2771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51" name="组合 24592"/>
          <p:cNvGrpSpPr/>
          <p:nvPr/>
        </p:nvGrpSpPr>
        <p:grpSpPr>
          <a:xfrm>
            <a:off x="5516640" y="2343240"/>
            <a:ext cx="1325160" cy="815400"/>
            <a:chOff x="5516640" y="2343240"/>
            <a:chExt cx="1325160" cy="815400"/>
          </a:xfrm>
        </p:grpSpPr>
        <p:grpSp>
          <p:nvGrpSpPr>
            <p:cNvPr id="1652" name="组合 24593"/>
            <p:cNvGrpSpPr/>
            <p:nvPr/>
          </p:nvGrpSpPr>
          <p:grpSpPr>
            <a:xfrm>
              <a:off x="5516640" y="2343240"/>
              <a:ext cx="533160" cy="815400"/>
              <a:chOff x="5516640" y="2343240"/>
              <a:chExt cx="533160" cy="815400"/>
            </a:xfrm>
          </p:grpSpPr>
          <p:sp>
            <p:nvSpPr>
              <p:cNvPr id="1653" name="文本框 24594"/>
              <p:cNvSpPr/>
              <p:nvPr/>
            </p:nvSpPr>
            <p:spPr>
              <a:xfrm>
                <a:off x="5545080" y="2698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4" name="文本框 24595"/>
              <p:cNvSpPr/>
              <p:nvPr/>
            </p:nvSpPr>
            <p:spPr>
              <a:xfrm>
                <a:off x="5529240" y="2343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5" name="直接连接符 24596"/>
              <p:cNvSpPr/>
              <p:nvPr/>
            </p:nvSpPr>
            <p:spPr>
              <a:xfrm>
                <a:off x="5516640" y="276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56" name="组合 24597"/>
            <p:cNvGrpSpPr/>
            <p:nvPr/>
          </p:nvGrpSpPr>
          <p:grpSpPr>
            <a:xfrm>
              <a:off x="6308640" y="2343240"/>
              <a:ext cx="533160" cy="815400"/>
              <a:chOff x="6308640" y="2343240"/>
              <a:chExt cx="533160" cy="815400"/>
            </a:xfrm>
          </p:grpSpPr>
          <p:sp>
            <p:nvSpPr>
              <p:cNvPr id="1657" name="文本框 24598"/>
              <p:cNvSpPr/>
              <p:nvPr/>
            </p:nvSpPr>
            <p:spPr>
              <a:xfrm>
                <a:off x="6337080" y="2698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8" name="文本框 24599"/>
              <p:cNvSpPr/>
              <p:nvPr/>
            </p:nvSpPr>
            <p:spPr>
              <a:xfrm>
                <a:off x="6321240" y="2343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9" name="直接连接符 24600"/>
              <p:cNvSpPr/>
              <p:nvPr/>
            </p:nvSpPr>
            <p:spPr>
              <a:xfrm>
                <a:off x="6308640" y="276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60" name="文本框 24601"/>
            <p:cNvSpPr/>
            <p:nvPr/>
          </p:nvSpPr>
          <p:spPr>
            <a:xfrm>
              <a:off x="5857920" y="25848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61" name="组合 24602"/>
          <p:cNvGrpSpPr/>
          <p:nvPr/>
        </p:nvGrpSpPr>
        <p:grpSpPr>
          <a:xfrm>
            <a:off x="1117440" y="2895480"/>
            <a:ext cx="7775640" cy="1671480"/>
            <a:chOff x="1117440" y="2895480"/>
            <a:chExt cx="7775640" cy="1671480"/>
          </a:xfrm>
        </p:grpSpPr>
        <p:sp>
          <p:nvSpPr>
            <p:cNvPr id="1662" name="Text Box 18"/>
            <p:cNvSpPr/>
            <p:nvPr/>
          </p:nvSpPr>
          <p:spPr>
            <a:xfrm>
              <a:off x="1117440" y="3009960"/>
              <a:ext cx="777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请你用一张纸动手折一折、画一画，用阴影表示出        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意思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63" name="组合 24604"/>
            <p:cNvGrpSpPr/>
            <p:nvPr/>
          </p:nvGrpSpPr>
          <p:grpSpPr>
            <a:xfrm>
              <a:off x="7188120" y="2895480"/>
              <a:ext cx="1325160" cy="815400"/>
              <a:chOff x="7188120" y="2895480"/>
              <a:chExt cx="1325160" cy="815400"/>
            </a:xfrm>
          </p:grpSpPr>
          <p:grpSp>
            <p:nvGrpSpPr>
              <p:cNvPr id="1664" name="组合 24605"/>
              <p:cNvGrpSpPr/>
              <p:nvPr/>
            </p:nvGrpSpPr>
            <p:grpSpPr>
              <a:xfrm>
                <a:off x="7188120" y="2895480"/>
                <a:ext cx="533160" cy="815400"/>
                <a:chOff x="7188120" y="2895480"/>
                <a:chExt cx="533160" cy="815400"/>
              </a:xfrm>
            </p:grpSpPr>
            <p:sp>
              <p:nvSpPr>
                <p:cNvPr id="1665" name="文本框 24606"/>
                <p:cNvSpPr/>
                <p:nvPr/>
              </p:nvSpPr>
              <p:spPr>
                <a:xfrm>
                  <a:off x="7216560" y="3251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6" name="文本框 24607"/>
                <p:cNvSpPr/>
                <p:nvPr/>
              </p:nvSpPr>
              <p:spPr>
                <a:xfrm>
                  <a:off x="7200720" y="2895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7" name="直接连接符 24608"/>
                <p:cNvSpPr/>
                <p:nvPr/>
              </p:nvSpPr>
              <p:spPr>
                <a:xfrm>
                  <a:off x="7188120" y="3314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68" name="组合 24609"/>
              <p:cNvGrpSpPr/>
              <p:nvPr/>
            </p:nvGrpSpPr>
            <p:grpSpPr>
              <a:xfrm>
                <a:off x="7980120" y="2895480"/>
                <a:ext cx="533160" cy="815400"/>
                <a:chOff x="7980120" y="2895480"/>
                <a:chExt cx="533160" cy="815400"/>
              </a:xfrm>
            </p:grpSpPr>
            <p:sp>
              <p:nvSpPr>
                <p:cNvPr id="1669" name="文本框 24610"/>
                <p:cNvSpPr/>
                <p:nvPr/>
              </p:nvSpPr>
              <p:spPr>
                <a:xfrm>
                  <a:off x="8008560" y="3251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0" name="文本框 24611"/>
                <p:cNvSpPr/>
                <p:nvPr/>
              </p:nvSpPr>
              <p:spPr>
                <a:xfrm>
                  <a:off x="7992720" y="2895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1" name="直接连接符 24612"/>
                <p:cNvSpPr/>
                <p:nvPr/>
              </p:nvSpPr>
              <p:spPr>
                <a:xfrm>
                  <a:off x="7980120" y="3314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72" name="文本框 24613"/>
              <p:cNvSpPr/>
              <p:nvPr/>
            </p:nvSpPr>
            <p:spPr>
              <a:xfrm>
                <a:off x="7529400" y="313704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73" name="组合 24614"/>
          <p:cNvGrpSpPr/>
          <p:nvPr/>
        </p:nvGrpSpPr>
        <p:grpSpPr>
          <a:xfrm>
            <a:off x="1900080" y="3516480"/>
            <a:ext cx="6245280" cy="1306080"/>
            <a:chOff x="1900080" y="3516480"/>
            <a:chExt cx="6245280" cy="1306080"/>
          </a:xfrm>
        </p:grpSpPr>
        <p:grpSp>
          <p:nvGrpSpPr>
            <p:cNvPr id="1674" name="组合 24615"/>
            <p:cNvGrpSpPr/>
            <p:nvPr/>
          </p:nvGrpSpPr>
          <p:grpSpPr>
            <a:xfrm>
              <a:off x="1900080" y="3516480"/>
              <a:ext cx="6245280" cy="1306080"/>
              <a:chOff x="1900080" y="3516480"/>
              <a:chExt cx="6245280" cy="1306080"/>
            </a:xfrm>
          </p:grpSpPr>
          <p:pic>
            <p:nvPicPr>
              <p:cNvPr id="1675" name="图片 24616" descr="10"/>
              <p:cNvPicPr/>
              <p:nvPr/>
            </p:nvPicPr>
            <p:blipFill>
              <a:blip r:embed="rId1"/>
              <a:stretch/>
            </p:blipFill>
            <p:spPr>
              <a:xfrm>
                <a:off x="2257560" y="3743280"/>
                <a:ext cx="5887800" cy="107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76" name="组合 24617"/>
              <p:cNvGrpSpPr/>
              <p:nvPr/>
            </p:nvGrpSpPr>
            <p:grpSpPr>
              <a:xfrm>
                <a:off x="1900080" y="3516480"/>
                <a:ext cx="3937320" cy="1131480"/>
                <a:chOff x="1900080" y="3516480"/>
                <a:chExt cx="3937320" cy="1131480"/>
              </a:xfrm>
            </p:grpSpPr>
            <p:grpSp>
              <p:nvGrpSpPr>
                <p:cNvPr id="1677" name="组合 24618"/>
                <p:cNvGrpSpPr/>
                <p:nvPr/>
              </p:nvGrpSpPr>
              <p:grpSpPr>
                <a:xfrm>
                  <a:off x="1900080" y="3983040"/>
                  <a:ext cx="1028880" cy="664920"/>
                  <a:chOff x="1900080" y="3983040"/>
                  <a:chExt cx="1028880" cy="664920"/>
                </a:xfrm>
              </p:grpSpPr>
              <p:sp>
                <p:nvSpPr>
                  <p:cNvPr id="1678" name="文本框 24619"/>
                  <p:cNvSpPr/>
                  <p:nvPr/>
                </p:nvSpPr>
                <p:spPr>
                  <a:xfrm>
                    <a:off x="1906560" y="4262040"/>
                    <a:ext cx="5047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79" name="文本框 24620"/>
                  <p:cNvSpPr/>
                  <p:nvPr/>
                </p:nvSpPr>
                <p:spPr>
                  <a:xfrm>
                    <a:off x="1900080" y="3983040"/>
                    <a:ext cx="3603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80" name="直接连接符 24621"/>
                  <p:cNvSpPr/>
                  <p:nvPr/>
                </p:nvSpPr>
                <p:spPr>
                  <a:xfrm>
                    <a:off x="1951200" y="43254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81" name="文本框 24622"/>
                  <p:cNvSpPr/>
                  <p:nvPr/>
                </p:nvSpPr>
                <p:spPr>
                  <a:xfrm>
                    <a:off x="2136600" y="4131720"/>
                    <a:ext cx="792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600" spc="-1" strike="noStrike" u="sng">
                        <a:solidFill>
                          <a:srgbClr val="000000"/>
                        </a:solidFill>
                        <a:uFillTx/>
                        <a:latin typeface="宋体"/>
                        <a:ea typeface="宋体"/>
                      </a:rPr>
                      <a:t>公顷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682" name="组合 24623"/>
                <p:cNvGrpSpPr/>
                <p:nvPr/>
              </p:nvGrpSpPr>
              <p:grpSpPr>
                <a:xfrm>
                  <a:off x="4384800" y="3525840"/>
                  <a:ext cx="511200" cy="665280"/>
                  <a:chOff x="4384800" y="3525840"/>
                  <a:chExt cx="511200" cy="665280"/>
                </a:xfrm>
              </p:grpSpPr>
              <p:sp>
                <p:nvSpPr>
                  <p:cNvPr id="1683" name="文本框 24624"/>
                  <p:cNvSpPr/>
                  <p:nvPr/>
                </p:nvSpPr>
                <p:spPr>
                  <a:xfrm>
                    <a:off x="4391280" y="3805200"/>
                    <a:ext cx="5047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84" name="文本框 24625"/>
                  <p:cNvSpPr/>
                  <p:nvPr/>
                </p:nvSpPr>
                <p:spPr>
                  <a:xfrm>
                    <a:off x="4384800" y="3525840"/>
                    <a:ext cx="3603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85" name="直接连接符 24626"/>
                  <p:cNvSpPr/>
                  <p:nvPr/>
                </p:nvSpPr>
                <p:spPr>
                  <a:xfrm>
                    <a:off x="4435920" y="386856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686" name="文本框 24627"/>
                <p:cNvSpPr/>
                <p:nvPr/>
              </p:nvSpPr>
              <p:spPr>
                <a:xfrm>
                  <a:off x="4602240" y="3674880"/>
                  <a:ext cx="91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公顷的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87" name="组合 24628"/>
                <p:cNvGrpSpPr/>
                <p:nvPr/>
              </p:nvGrpSpPr>
              <p:grpSpPr>
                <a:xfrm>
                  <a:off x="5326200" y="3516480"/>
                  <a:ext cx="511200" cy="665280"/>
                  <a:chOff x="5326200" y="3516480"/>
                  <a:chExt cx="511200" cy="665280"/>
                </a:xfrm>
              </p:grpSpPr>
              <p:sp>
                <p:nvSpPr>
                  <p:cNvPr id="1688" name="文本框 24629"/>
                  <p:cNvSpPr/>
                  <p:nvPr/>
                </p:nvSpPr>
                <p:spPr>
                  <a:xfrm>
                    <a:off x="5332680" y="3795840"/>
                    <a:ext cx="5047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89" name="文本框 24630"/>
                  <p:cNvSpPr/>
                  <p:nvPr/>
                </p:nvSpPr>
                <p:spPr>
                  <a:xfrm>
                    <a:off x="5326200" y="3516480"/>
                    <a:ext cx="3603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90" name="直接连接符 24631"/>
                  <p:cNvSpPr/>
                  <p:nvPr/>
                </p:nvSpPr>
                <p:spPr>
                  <a:xfrm>
                    <a:off x="5377320" y="38592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1691" name="文本框 24632"/>
              <p:cNvSpPr/>
              <p:nvPr/>
            </p:nvSpPr>
            <p:spPr>
              <a:xfrm>
                <a:off x="6361200" y="3708360"/>
                <a:ext cx="10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？公顷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92" name="左大括号 24633"/>
            <p:cNvSpPr/>
            <p:nvPr/>
          </p:nvSpPr>
          <p:spPr>
            <a:xfrm>
              <a:off x="2684520" y="4135320"/>
              <a:ext cx="144360" cy="323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93" name="组合 24634"/>
          <p:cNvGrpSpPr/>
          <p:nvPr/>
        </p:nvGrpSpPr>
        <p:grpSpPr>
          <a:xfrm>
            <a:off x="2327400" y="5300640"/>
            <a:ext cx="4006440" cy="835920"/>
            <a:chOff x="2327400" y="5300640"/>
            <a:chExt cx="4006440" cy="835920"/>
          </a:xfrm>
        </p:grpSpPr>
        <p:grpSp>
          <p:nvGrpSpPr>
            <p:cNvPr id="1694" name="组合 24635"/>
            <p:cNvGrpSpPr/>
            <p:nvPr/>
          </p:nvGrpSpPr>
          <p:grpSpPr>
            <a:xfrm>
              <a:off x="2327400" y="5321160"/>
              <a:ext cx="1325160" cy="815400"/>
              <a:chOff x="2327400" y="5321160"/>
              <a:chExt cx="1325160" cy="815400"/>
            </a:xfrm>
          </p:grpSpPr>
          <p:grpSp>
            <p:nvGrpSpPr>
              <p:cNvPr id="1695" name="组合 24636"/>
              <p:cNvGrpSpPr/>
              <p:nvPr/>
            </p:nvGrpSpPr>
            <p:grpSpPr>
              <a:xfrm>
                <a:off x="2327400" y="5321160"/>
                <a:ext cx="533160" cy="815400"/>
                <a:chOff x="2327400" y="5321160"/>
                <a:chExt cx="533160" cy="815400"/>
              </a:xfrm>
            </p:grpSpPr>
            <p:sp>
              <p:nvSpPr>
                <p:cNvPr id="1696" name="文本框 24637"/>
                <p:cNvSpPr/>
                <p:nvPr/>
              </p:nvSpPr>
              <p:spPr>
                <a:xfrm>
                  <a:off x="2355840" y="56768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7" name="文本框 24638"/>
                <p:cNvSpPr/>
                <p:nvPr/>
              </p:nvSpPr>
              <p:spPr>
                <a:xfrm>
                  <a:off x="2340000" y="5321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8" name="直接连接符 24639"/>
                <p:cNvSpPr/>
                <p:nvPr/>
              </p:nvSpPr>
              <p:spPr>
                <a:xfrm>
                  <a:off x="2327400" y="5740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99" name="组合 24640"/>
              <p:cNvGrpSpPr/>
              <p:nvPr/>
            </p:nvGrpSpPr>
            <p:grpSpPr>
              <a:xfrm>
                <a:off x="3119400" y="5321160"/>
                <a:ext cx="533160" cy="815400"/>
                <a:chOff x="3119400" y="5321160"/>
                <a:chExt cx="533160" cy="815400"/>
              </a:xfrm>
            </p:grpSpPr>
            <p:sp>
              <p:nvSpPr>
                <p:cNvPr id="1700" name="文本框 24641"/>
                <p:cNvSpPr/>
                <p:nvPr/>
              </p:nvSpPr>
              <p:spPr>
                <a:xfrm>
                  <a:off x="3147840" y="56768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01" name="文本框 24642"/>
                <p:cNvSpPr/>
                <p:nvPr/>
              </p:nvSpPr>
              <p:spPr>
                <a:xfrm>
                  <a:off x="3132000" y="5321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02" name="直接连接符 24643"/>
                <p:cNvSpPr/>
                <p:nvPr/>
              </p:nvSpPr>
              <p:spPr>
                <a:xfrm>
                  <a:off x="3119400" y="5740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03" name="文本框 24644"/>
              <p:cNvSpPr/>
              <p:nvPr/>
            </p:nvSpPr>
            <p:spPr>
              <a:xfrm>
                <a:off x="2668680" y="556272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04" name="文本框 24645"/>
            <p:cNvSpPr/>
            <p:nvPr/>
          </p:nvSpPr>
          <p:spPr>
            <a:xfrm>
              <a:off x="3457440" y="5527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05" name="组合 24646"/>
            <p:cNvGrpSpPr/>
            <p:nvPr/>
          </p:nvGrpSpPr>
          <p:grpSpPr>
            <a:xfrm>
              <a:off x="3821040" y="5310000"/>
              <a:ext cx="850680" cy="815040"/>
              <a:chOff x="3821040" y="5310000"/>
              <a:chExt cx="850680" cy="815040"/>
            </a:xfrm>
          </p:grpSpPr>
          <p:sp>
            <p:nvSpPr>
              <p:cNvPr id="1706" name="文本框 24647"/>
              <p:cNvSpPr/>
              <p:nvPr/>
            </p:nvSpPr>
            <p:spPr>
              <a:xfrm>
                <a:off x="3836880" y="5665320"/>
                <a:ext cx="83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7" name="文本框 24648"/>
              <p:cNvSpPr/>
              <p:nvPr/>
            </p:nvSpPr>
            <p:spPr>
              <a:xfrm>
                <a:off x="3821040" y="5310000"/>
                <a:ext cx="85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8" name="直接连接符 24649"/>
              <p:cNvSpPr/>
              <p:nvPr/>
            </p:nvSpPr>
            <p:spPr>
              <a:xfrm>
                <a:off x="3836880" y="5729040"/>
                <a:ext cx="71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09" name="组合 24650"/>
            <p:cNvGrpSpPr/>
            <p:nvPr/>
          </p:nvGrpSpPr>
          <p:grpSpPr>
            <a:xfrm>
              <a:off x="4798800" y="5300640"/>
              <a:ext cx="504720" cy="815040"/>
              <a:chOff x="4798800" y="5300640"/>
              <a:chExt cx="504720" cy="815040"/>
            </a:xfrm>
          </p:grpSpPr>
          <p:sp>
            <p:nvSpPr>
              <p:cNvPr id="1710" name="文本框 24651"/>
              <p:cNvSpPr/>
              <p:nvPr/>
            </p:nvSpPr>
            <p:spPr>
              <a:xfrm>
                <a:off x="4798800" y="565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1" name="文本框 24652"/>
              <p:cNvSpPr/>
              <p:nvPr/>
            </p:nvSpPr>
            <p:spPr>
              <a:xfrm>
                <a:off x="4868640" y="530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2" name="直接连接符 24653"/>
              <p:cNvSpPr/>
              <p:nvPr/>
            </p:nvSpPr>
            <p:spPr>
              <a:xfrm>
                <a:off x="4855680" y="5719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13" name="文本框 24654"/>
            <p:cNvSpPr/>
            <p:nvPr/>
          </p:nvSpPr>
          <p:spPr>
            <a:xfrm>
              <a:off x="4497480" y="5527440"/>
              <a:ext cx="50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4" name="文本框 24655"/>
            <p:cNvSpPr/>
            <p:nvPr/>
          </p:nvSpPr>
          <p:spPr>
            <a:xfrm>
              <a:off x="5108400" y="5527440"/>
              <a:ext cx="12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公顷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5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716" name="图片 25602" descr=""/>
          <p:cNvPicPr/>
          <p:nvPr/>
        </p:nvPicPr>
        <p:blipFill>
          <a:blip r:embed="rId2"/>
          <a:stretch/>
        </p:blipFill>
        <p:spPr>
          <a:xfrm>
            <a:off x="343080" y="285840"/>
            <a:ext cx="8381880" cy="62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图片 26625" descr="11"/>
          <p:cNvPicPr/>
          <p:nvPr/>
        </p:nvPicPr>
        <p:blipFill>
          <a:blip r:embed="rId1"/>
          <a:stretch/>
        </p:blipFill>
        <p:spPr>
          <a:xfrm>
            <a:off x="3276720" y="5300640"/>
            <a:ext cx="2493720" cy="1260360"/>
          </a:xfrm>
          <a:prstGeom prst="rect">
            <a:avLst/>
          </a:prstGeom>
          <a:ln w="0">
            <a:noFill/>
          </a:ln>
        </p:spPr>
      </p:pic>
      <p:sp>
        <p:nvSpPr>
          <p:cNvPr id="1718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9" name="Text Box 14"/>
          <p:cNvSpPr/>
          <p:nvPr/>
        </p:nvSpPr>
        <p:spPr>
          <a:xfrm>
            <a:off x="484200" y="189000"/>
            <a:ext cx="31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0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1" name="Text Box 16"/>
          <p:cNvSpPr/>
          <p:nvPr/>
        </p:nvSpPr>
        <p:spPr>
          <a:xfrm>
            <a:off x="828720" y="20257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问题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种玉米的面积是多少公顷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2" name="组合 26630"/>
          <p:cNvGrpSpPr/>
          <p:nvPr/>
        </p:nvGrpSpPr>
        <p:grpSpPr>
          <a:xfrm>
            <a:off x="839880" y="2332080"/>
            <a:ext cx="7345440" cy="1300680"/>
            <a:chOff x="839880" y="2332080"/>
            <a:chExt cx="7345440" cy="1300680"/>
          </a:xfrm>
        </p:grpSpPr>
        <p:sp>
          <p:nvSpPr>
            <p:cNvPr id="1723" name="Text Box 12"/>
            <p:cNvSpPr/>
            <p:nvPr/>
          </p:nvSpPr>
          <p:spPr>
            <a:xfrm>
              <a:off x="839880" y="2441520"/>
              <a:ext cx="734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是怎样理解“种玉米的面积占      ”这句话？（把这块地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平均分成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种玉米的面积占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4" name="组合 26632"/>
            <p:cNvGrpSpPr/>
            <p:nvPr/>
          </p:nvGrpSpPr>
          <p:grpSpPr>
            <a:xfrm>
              <a:off x="4822920" y="2332080"/>
              <a:ext cx="533160" cy="815040"/>
              <a:chOff x="4822920" y="2332080"/>
              <a:chExt cx="533160" cy="815040"/>
            </a:xfrm>
          </p:grpSpPr>
          <p:sp>
            <p:nvSpPr>
              <p:cNvPr id="1725" name="文本框 26633"/>
              <p:cNvSpPr/>
              <p:nvPr/>
            </p:nvSpPr>
            <p:spPr>
              <a:xfrm>
                <a:off x="4851360" y="268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6" name="文本框 26634"/>
              <p:cNvSpPr/>
              <p:nvPr/>
            </p:nvSpPr>
            <p:spPr>
              <a:xfrm>
                <a:off x="4835520" y="2332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7" name="直接连接符 26635"/>
              <p:cNvSpPr/>
              <p:nvPr/>
            </p:nvSpPr>
            <p:spPr>
              <a:xfrm>
                <a:off x="4822920" y="2750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28" name="组合 26636"/>
          <p:cNvGrpSpPr/>
          <p:nvPr/>
        </p:nvGrpSpPr>
        <p:grpSpPr>
          <a:xfrm>
            <a:off x="839880" y="3335400"/>
            <a:ext cx="8208720" cy="845280"/>
            <a:chOff x="839880" y="3335400"/>
            <a:chExt cx="8208720" cy="845280"/>
          </a:xfrm>
        </p:grpSpPr>
        <p:sp>
          <p:nvSpPr>
            <p:cNvPr id="1729" name="Text Box 3"/>
            <p:cNvSpPr/>
            <p:nvPr/>
          </p:nvSpPr>
          <p:spPr>
            <a:xfrm>
              <a:off x="839880" y="3460680"/>
              <a:ext cx="82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列式呢？（求      公顷的      是多少，可以用                 表示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30" name="组合 26638"/>
            <p:cNvGrpSpPr/>
            <p:nvPr/>
          </p:nvGrpSpPr>
          <p:grpSpPr>
            <a:xfrm>
              <a:off x="3277800" y="3365640"/>
              <a:ext cx="533160" cy="815040"/>
              <a:chOff x="3277800" y="3365640"/>
              <a:chExt cx="533160" cy="815040"/>
            </a:xfrm>
          </p:grpSpPr>
          <p:sp>
            <p:nvSpPr>
              <p:cNvPr id="1731" name="文本框 26639"/>
              <p:cNvSpPr/>
              <p:nvPr/>
            </p:nvSpPr>
            <p:spPr>
              <a:xfrm>
                <a:off x="3306240" y="3720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2" name="文本框 26640"/>
              <p:cNvSpPr/>
              <p:nvPr/>
            </p:nvSpPr>
            <p:spPr>
              <a:xfrm>
                <a:off x="3290400" y="3365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3" name="直接连接符 26641"/>
              <p:cNvSpPr/>
              <p:nvPr/>
            </p:nvSpPr>
            <p:spPr>
              <a:xfrm>
                <a:off x="3277800" y="3784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34" name="组合 26642"/>
            <p:cNvGrpSpPr/>
            <p:nvPr/>
          </p:nvGrpSpPr>
          <p:grpSpPr>
            <a:xfrm>
              <a:off x="4468680" y="3362400"/>
              <a:ext cx="532440" cy="815400"/>
              <a:chOff x="4468680" y="3362400"/>
              <a:chExt cx="532440" cy="815400"/>
            </a:xfrm>
          </p:grpSpPr>
          <p:sp>
            <p:nvSpPr>
              <p:cNvPr id="1735" name="文本框 26643"/>
              <p:cNvSpPr/>
              <p:nvPr/>
            </p:nvSpPr>
            <p:spPr>
              <a:xfrm>
                <a:off x="4496760" y="37180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6" name="文本框 26644"/>
              <p:cNvSpPr/>
              <p:nvPr/>
            </p:nvSpPr>
            <p:spPr>
              <a:xfrm>
                <a:off x="4480920" y="33624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7" name="直接连接符 26645"/>
              <p:cNvSpPr/>
              <p:nvPr/>
            </p:nvSpPr>
            <p:spPr>
              <a:xfrm>
                <a:off x="4468680" y="37814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38" name="组合 26646"/>
            <p:cNvGrpSpPr/>
            <p:nvPr/>
          </p:nvGrpSpPr>
          <p:grpSpPr>
            <a:xfrm>
              <a:off x="6681600" y="3335400"/>
              <a:ext cx="1324800" cy="815400"/>
              <a:chOff x="6681600" y="3335400"/>
              <a:chExt cx="1324800" cy="815400"/>
            </a:xfrm>
          </p:grpSpPr>
          <p:grpSp>
            <p:nvGrpSpPr>
              <p:cNvPr id="1739" name="组合 26647"/>
              <p:cNvGrpSpPr/>
              <p:nvPr/>
            </p:nvGrpSpPr>
            <p:grpSpPr>
              <a:xfrm>
                <a:off x="6681600" y="3335400"/>
                <a:ext cx="532440" cy="815400"/>
                <a:chOff x="6681600" y="3335400"/>
                <a:chExt cx="532440" cy="815400"/>
              </a:xfrm>
            </p:grpSpPr>
            <p:sp>
              <p:nvSpPr>
                <p:cNvPr id="1740" name="文本框 26648"/>
                <p:cNvSpPr/>
                <p:nvPr/>
              </p:nvSpPr>
              <p:spPr>
                <a:xfrm>
                  <a:off x="6709680" y="369108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41" name="文本框 26649"/>
                <p:cNvSpPr/>
                <p:nvPr/>
              </p:nvSpPr>
              <p:spPr>
                <a:xfrm>
                  <a:off x="6693840" y="333540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42" name="直接连接符 26650"/>
                <p:cNvSpPr/>
                <p:nvPr/>
              </p:nvSpPr>
              <p:spPr>
                <a:xfrm>
                  <a:off x="6681600" y="375444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43" name="组合 26651"/>
              <p:cNvGrpSpPr/>
              <p:nvPr/>
            </p:nvGrpSpPr>
            <p:grpSpPr>
              <a:xfrm>
                <a:off x="7473240" y="3335400"/>
                <a:ext cx="533160" cy="815400"/>
                <a:chOff x="7473240" y="3335400"/>
                <a:chExt cx="533160" cy="815400"/>
              </a:xfrm>
            </p:grpSpPr>
            <p:sp>
              <p:nvSpPr>
                <p:cNvPr id="1744" name="文本框 26652"/>
                <p:cNvSpPr/>
                <p:nvPr/>
              </p:nvSpPr>
              <p:spPr>
                <a:xfrm>
                  <a:off x="7501680" y="36910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45" name="文本框 26653"/>
                <p:cNvSpPr/>
                <p:nvPr/>
              </p:nvSpPr>
              <p:spPr>
                <a:xfrm>
                  <a:off x="7485840" y="3335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46" name="直接连接符 26654"/>
                <p:cNvSpPr/>
                <p:nvPr/>
              </p:nvSpPr>
              <p:spPr>
                <a:xfrm>
                  <a:off x="7473240" y="37544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47" name="文本框 26655"/>
              <p:cNvSpPr/>
              <p:nvPr/>
            </p:nvSpPr>
            <p:spPr>
              <a:xfrm>
                <a:off x="7022520" y="3576960"/>
                <a:ext cx="64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48" name="组合 26656"/>
          <p:cNvGrpSpPr/>
          <p:nvPr/>
        </p:nvGrpSpPr>
        <p:grpSpPr>
          <a:xfrm>
            <a:off x="841320" y="4084560"/>
            <a:ext cx="8494920" cy="815400"/>
            <a:chOff x="841320" y="4084560"/>
            <a:chExt cx="8494920" cy="815400"/>
          </a:xfrm>
        </p:grpSpPr>
        <p:sp>
          <p:nvSpPr>
            <p:cNvPr id="1749" name="Text Box 18"/>
            <p:cNvSpPr/>
            <p:nvPr/>
          </p:nvSpPr>
          <p:spPr>
            <a:xfrm>
              <a:off x="841320" y="4294080"/>
              <a:ext cx="84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请你用一张纸动手折一折、画一画，用阴影表示出                  的意思。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50" name="组合 26658"/>
            <p:cNvGrpSpPr/>
            <p:nvPr/>
          </p:nvGrpSpPr>
          <p:grpSpPr>
            <a:xfrm>
              <a:off x="6896160" y="4084560"/>
              <a:ext cx="1325160" cy="815400"/>
              <a:chOff x="6896160" y="4084560"/>
              <a:chExt cx="1325160" cy="815400"/>
            </a:xfrm>
          </p:grpSpPr>
          <p:grpSp>
            <p:nvGrpSpPr>
              <p:cNvPr id="1751" name="组合 26659"/>
              <p:cNvGrpSpPr/>
              <p:nvPr/>
            </p:nvGrpSpPr>
            <p:grpSpPr>
              <a:xfrm>
                <a:off x="6896160" y="4084560"/>
                <a:ext cx="533160" cy="815400"/>
                <a:chOff x="6896160" y="4084560"/>
                <a:chExt cx="533160" cy="815400"/>
              </a:xfrm>
            </p:grpSpPr>
            <p:sp>
              <p:nvSpPr>
                <p:cNvPr id="1752" name="文本框 26660"/>
                <p:cNvSpPr/>
                <p:nvPr/>
              </p:nvSpPr>
              <p:spPr>
                <a:xfrm>
                  <a:off x="6924600" y="44402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53" name="文本框 26661"/>
                <p:cNvSpPr/>
                <p:nvPr/>
              </p:nvSpPr>
              <p:spPr>
                <a:xfrm>
                  <a:off x="6908760" y="40845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54" name="直接连接符 26662"/>
                <p:cNvSpPr/>
                <p:nvPr/>
              </p:nvSpPr>
              <p:spPr>
                <a:xfrm>
                  <a:off x="6896160" y="45036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55" name="组合 26663"/>
              <p:cNvGrpSpPr/>
              <p:nvPr/>
            </p:nvGrpSpPr>
            <p:grpSpPr>
              <a:xfrm>
                <a:off x="7688160" y="4084560"/>
                <a:ext cx="533160" cy="815400"/>
                <a:chOff x="7688160" y="4084560"/>
                <a:chExt cx="533160" cy="815400"/>
              </a:xfrm>
            </p:grpSpPr>
            <p:sp>
              <p:nvSpPr>
                <p:cNvPr id="1756" name="文本框 26664"/>
                <p:cNvSpPr/>
                <p:nvPr/>
              </p:nvSpPr>
              <p:spPr>
                <a:xfrm>
                  <a:off x="7716600" y="44402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57" name="文本框 26665"/>
                <p:cNvSpPr/>
                <p:nvPr/>
              </p:nvSpPr>
              <p:spPr>
                <a:xfrm>
                  <a:off x="7700760" y="40845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58" name="直接连接符 26666"/>
                <p:cNvSpPr/>
                <p:nvPr/>
              </p:nvSpPr>
              <p:spPr>
                <a:xfrm>
                  <a:off x="7688160" y="45036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59" name="文本框 26667"/>
              <p:cNvSpPr/>
              <p:nvPr/>
            </p:nvSpPr>
            <p:spPr>
              <a:xfrm>
                <a:off x="7237440" y="432612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60" name="组合 26668"/>
          <p:cNvGrpSpPr/>
          <p:nvPr/>
        </p:nvGrpSpPr>
        <p:grpSpPr>
          <a:xfrm>
            <a:off x="3438360" y="4743360"/>
            <a:ext cx="1881000" cy="678240"/>
            <a:chOff x="3438360" y="4743360"/>
            <a:chExt cx="1881000" cy="678240"/>
          </a:xfrm>
        </p:grpSpPr>
        <p:sp>
          <p:nvSpPr>
            <p:cNvPr id="1761" name="矩形 26669"/>
            <p:cNvSpPr/>
            <p:nvPr/>
          </p:nvSpPr>
          <p:spPr>
            <a:xfrm>
              <a:off x="3965040" y="4951440"/>
              <a:ext cx="135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公顷的      是？公顷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62" name="组合 26670"/>
            <p:cNvGrpSpPr/>
            <p:nvPr/>
          </p:nvGrpSpPr>
          <p:grpSpPr>
            <a:xfrm>
              <a:off x="3438360" y="4756320"/>
              <a:ext cx="511200" cy="665280"/>
              <a:chOff x="3438360" y="4756320"/>
              <a:chExt cx="511200" cy="665280"/>
            </a:xfrm>
          </p:grpSpPr>
          <p:sp>
            <p:nvSpPr>
              <p:cNvPr id="1763" name="文本框 26671"/>
              <p:cNvSpPr/>
              <p:nvPr/>
            </p:nvSpPr>
            <p:spPr>
              <a:xfrm>
                <a:off x="3444840" y="5035680"/>
                <a:ext cx="50472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2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4" name="文本框 26672"/>
              <p:cNvSpPr/>
              <p:nvPr/>
            </p:nvSpPr>
            <p:spPr>
              <a:xfrm>
                <a:off x="3438360" y="4756320"/>
                <a:ext cx="3603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5" name="直接连接符 26673"/>
              <p:cNvSpPr/>
              <p:nvPr/>
            </p:nvSpPr>
            <p:spPr>
              <a:xfrm>
                <a:off x="3489480" y="50990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66" name="组合 26674"/>
            <p:cNvGrpSpPr/>
            <p:nvPr/>
          </p:nvGrpSpPr>
          <p:grpSpPr>
            <a:xfrm>
              <a:off x="4363920" y="4743360"/>
              <a:ext cx="511200" cy="665280"/>
              <a:chOff x="4363920" y="4743360"/>
              <a:chExt cx="511200" cy="665280"/>
            </a:xfrm>
          </p:grpSpPr>
          <p:sp>
            <p:nvSpPr>
              <p:cNvPr id="1767" name="文本框 26675"/>
              <p:cNvSpPr/>
              <p:nvPr/>
            </p:nvSpPr>
            <p:spPr>
              <a:xfrm>
                <a:off x="4370400" y="5022720"/>
                <a:ext cx="50472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8" name="文本框 26676"/>
              <p:cNvSpPr/>
              <p:nvPr/>
            </p:nvSpPr>
            <p:spPr>
              <a:xfrm>
                <a:off x="4363920" y="4743360"/>
                <a:ext cx="3603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9" name="直接连接符 26677"/>
              <p:cNvSpPr/>
              <p:nvPr/>
            </p:nvSpPr>
            <p:spPr>
              <a:xfrm>
                <a:off x="4415040" y="50860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3:12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